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wmf" ContentType="image/x-wmf"/>
  <Override PartName="/ppt/media/image11.jpeg" ContentType="image/jpeg"/>
  <Override PartName="/ppt/media/image9.jpeg" ContentType="image/jpeg"/>
  <Override PartName="/ppt/media/image8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5.jpeg" ContentType="image/jpeg"/>
  <Override PartName="/ppt/media/image19.jpeg" ContentType="image/jpeg"/>
  <Override PartName="/ppt/media/image6.wmf" ContentType="image/x-wmf"/>
  <Override PartName="/ppt/media/image18.png" ContentType="image/png"/>
  <Override PartName="/ppt/media/image7.jpeg" ContentType="image/jpeg"/>
  <Override PartName="/ppt/media/image10.wmf" ContentType="image/x-wmf"/>
  <Override PartName="/ppt/media/image4.jpeg" ContentType="image/jpeg"/>
  <Override PartName="/ppt/media/image2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0CBF-AB07-453D-A07B-C3A0551BD2B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6F1E-C5F9-4D8C-B988-DFABB1FC1A0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EFA1-655F-4378-988D-FC59750DDD9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759F-F94A-4A63-BAB4-8B61D5993D0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9549-B3AA-4576-80D8-C8DF58F9C49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3F03-8FEA-47C2-9809-CDE734374AD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0A2D-3238-482D-A5E4-97A03C911AB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F594-8D67-41A0-AE97-A4FB72873B3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CB60-DCAA-4B68-AD63-3AE3FAC958F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0280-DA85-4BA3-8B50-993DC406B9D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C86F-AF1A-43A2-A7D1-FA67FC73168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406B-81FA-4688-865E-FD65E27A6E1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D85A-F091-4ED9-BBEB-01F683B1CA3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AC2D-59A1-4E29-A915-FF79FC70179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68A6-676E-4F93-B1BD-80CB0EAF656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9BDF-4549-49D7-96DE-51E8127DD24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7E8A-A7DA-4F98-8383-1DE84AE0094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39F6-A9A7-4B26-BD9C-B514EA4D615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17B3-91C4-4D03-A23F-4F4D162FD54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B005-6ED6-44C2-90D0-7401468511B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E063-1188-4559-9C89-DE41B4F2C42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454D-5CB7-47D4-A8D7-376ECBC25F9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AA32-9DCD-43B1-BCB5-89B440372DA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5520" cy="34261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A150-E8E5-4969-841A-94E1FA77EC9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5520" cy="34261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5CE4-28EE-4332-A3F2-DE574E9D5F3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5520" cy="34261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7F20-E653-49AE-B40D-4CFB4D59CE2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5520" cy="34261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6E2C-114E-4D4F-9DA7-F3027B12E79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5520" cy="34261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E314-BAE1-4EB4-8FA0-6C4C5F38664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5068-9905-4467-B9A3-0874B2DE0E2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BB22-2E5A-4A68-A227-868966F4E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FCDA-C6BD-4E0F-96CD-D23097C6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CFD9-0643-419E-A3EF-001DED4FC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4EBC-DB18-4BF5-993C-4C65EC602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DB14-CD9F-483D-9188-6AB97214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7609-2452-4F85-ADC2-53ECC8A6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8B70-7C78-4E2F-8D2E-E7057348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A9F9-A28F-4E7F-8C67-280490E6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11F6-F736-44FD-B797-F277DBF1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9351-C2AB-40C2-A3CE-E1BA25C7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DC6D-2D27-403A-A8F7-67B50058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B200-C8EB-46B5-BEEC-FC23606D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43F3-0FED-4E68-B74B-0CEBE285567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dscuola.it/archivio/software/sewcom.html#http://www.edscuola.it/archivio/software/sewcom.html" TargetMode="External"/><Relationship Id="rId2" Type="http://schemas.openxmlformats.org/officeDocument/2006/relationships/hyperlink" Target="http://timerime.com/#http://timerime.com/" TargetMode="External"/><Relationship Id="rId3" Type="http://schemas.openxmlformats.org/officeDocument/2006/relationships/hyperlink" Target="http://www.exploratree.org.uk/" TargetMode="External"/><Relationship Id="rId4" Type="http://schemas.openxmlformats.org/officeDocument/2006/relationships/hyperlink" Target="http://www.youtube.com/watch?v=15BaDjd7f1c&amp;feature=relmfu#http://www.youtube.com/watch?v=15BaDjd7f1c&amp;feature=relmfu" TargetMode="External"/><Relationship Id="rId5" Type="http://schemas.openxmlformats.org/officeDocument/2006/relationships/hyperlink" Target="http://www.youtube.com/watch?v=ALuzbiLZ58k#http://www.youtube.com/watch?v=ALuzbiLZ58k" TargetMode="External"/><Relationship Id="rId6" Type="http://schemas.openxmlformats.org/officeDocument/2006/relationships/hyperlink" Target="file:///G:/Scuola%20di%20Arcevia%202012/scheda%20analisi%20siti.pdf#scheda%2520analisi%2520siti.pdf" TargetMode="External"/><Relationship Id="rId7" Type="http://schemas.openxmlformats.org/officeDocument/2006/relationships/hyperlink" Target="http://www.bibliolab.it/acqui/Analizzare_file/frame.htm#http://www.bibliolab.it/acqui/Analizzare_file/frame.htm" TargetMode="External"/><Relationship Id="rId8" Type="http://schemas.openxmlformats.org/officeDocument/2006/relationships/image" Target="../media/image7.jpeg"/><Relationship Id="rId9" Type="http://schemas.openxmlformats.org/officeDocument/2006/relationships/image" Target="../media/image9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imerime.com/#http://timerime.com/" TargetMode="External"/><Relationship Id="rId2" Type="http://schemas.openxmlformats.org/officeDocument/2006/relationships/hyperlink" Target="http://www.exploratree.org.uk/" TargetMode="External"/><Relationship Id="rId3" Type="http://schemas.openxmlformats.org/officeDocument/2006/relationships/hyperlink" Target="http://it.wikipedia.org/wiki/Neolitico#http://it.wikipedia.org/wiki/Neolitico" TargetMode="External"/><Relationship Id="rId4" Type="http://schemas.openxmlformats.org/officeDocument/2006/relationships/hyperlink" Target="http://it.wikipedia.org/wiki/Neolitico#http://it.wikipedia.org/wiki/Neolitico" TargetMode="External"/><Relationship Id="rId5" Type="http://schemas.openxmlformats.org/officeDocument/2006/relationships/hyperlink" Target="http://www.archeoserver.it/space/UniMi#http://www.archeoserver.it/space/UniMi" TargetMode="External"/><Relationship Id="rId6" Type="http://schemas.openxmlformats.org/officeDocument/2006/relationships/hyperlink" Target="http://it.wikipedia.org/wiki/Neolitico_in_Italia#http://it.wikipedia.org/wiki/Neolitico_in_Italia" TargetMode="External"/><Relationship Id="rId7" Type="http://schemas.openxmlformats.org/officeDocument/2006/relationships/hyperlink" Target="http://www.archeoveneto.it/portale/?page_id=483#http://www.archeoveneto.it/portale/?page_id=483" TargetMode="External"/><Relationship Id="rId8" Type="http://schemas.openxmlformats.org/officeDocument/2006/relationships/hyperlink" Target="http://www.archeopd.beniculturali.it/index.php?it/1/home#http://www.archeopd.beniculturali.it/index.php?it/1/home" TargetMode="External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11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t.wikipedia.org/wiki/Agricoltura" TargetMode="External"/><Relationship Id="rId2" Type="http://schemas.openxmlformats.org/officeDocument/2006/relationships/hyperlink" Target="http://it.wikipedia.org/wiki/Allevamento" TargetMode="External"/><Relationship Id="rId3" Type="http://schemas.openxmlformats.org/officeDocument/2006/relationships/hyperlink" Target="http://books.google.it/books/about/La_Nascita_dell_Agricoltura.html?id=DQvDsdvOhsAC&amp;redir_esc=y#http://books.google.it/books/about/La_Nascita_dell_Agricoltura.html?id=DQvDsdvOhsAC&amp;redir_esc=y" TargetMode="External"/><Relationship Id="rId4" Type="http://schemas.openxmlformats.org/officeDocument/2006/relationships/hyperlink" Target="http://www.treccani.it/enciclopedia/rivoluzione-neolitica_(Enciclopedia_delle_Scienze_Sociali)/#http://www.treccani.it/enciclopedia/rivoluzione-neolitica_(Enciclopedia_delle_Scienze_Sociali)/" TargetMode="External"/><Relationship Id="rId5" Type="http://schemas.openxmlformats.org/officeDocument/2006/relationships/image" Target="../media/image7.jpeg"/><Relationship Id="rId6" Type="http://schemas.openxmlformats.org/officeDocument/2006/relationships/image" Target="../media/image9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lescienze.it/news/2012/05/29/news/neolitico_agricoltura_propriet_del_terreno_eredit_patrilocalit_sepolture_asce_stronzio-1050584/#http://www.lescienze.it/news/2012/05/29/news/neolitico_agricoltura_propriet_del_terreno_eredit_patrilocal" TargetMode="External"/><Relationship Id="rId2" Type="http://schemas.openxmlformats.org/officeDocument/2006/relationships/hyperlink" Target="http://www.almanacco.cnr.it/reader/cw_usr_view_articolo.html?id_articolo=3444&amp;id_rub=47&amp;giornale=3458#http://www.almanacco.cnr.it/reader/cw_usr_view_articolo.html?id_articolo=3444&amp;id_rub=47&amp;giornale=3458" TargetMode="External"/><Relationship Id="rId3" Type="http://schemas.openxmlformats.org/officeDocument/2006/relationships/hyperlink" Target="http://it.answers.yahoo.com/question/index?qid=20071114135546AAPVDbw#http://it.answers.yahoo.com/question/index?qid=20071114135546AAPVDbw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historycast.org/" TargetMode="External"/><Relationship Id="rId2" Type="http://schemas.openxmlformats.org/officeDocument/2006/relationships/hyperlink" Target="http://www.storiadelleimmagini.it/2010/12/rivoluzione-neolitica-agricoltura-scrittura-prime-illustrazioni-scientifiche/#http://www.storiadelleimmagini.it/2010/12/rivoluzione-neolitica-agricoltura-scrittura-prime-illustrazioni-scientifiche/" TargetMode="External"/><Relationship Id="rId3" Type="http://schemas.openxmlformats.org/officeDocument/2006/relationships/hyperlink" Target="http://www.homosapiens.net/lang/it" TargetMode="External"/><Relationship Id="rId4" Type="http://schemas.openxmlformats.org/officeDocument/2006/relationships/hyperlink" Target="http://www.antikitera.net/news.asp?TAG=Neolitico&amp;tipo=1" TargetMode="External"/><Relationship Id="rId5" Type="http://schemas.openxmlformats.org/officeDocument/2006/relationships/hyperlink" Target="http://www.storiainrete.com/#http://www.storiainrete.com/" TargetMode="External"/><Relationship Id="rId6" Type="http://schemas.openxmlformats.org/officeDocument/2006/relationships/hyperlink" Target="http://www.youtube.com/watch?v=5CHBqEOVeNA" TargetMode="External"/><Relationship Id="rId7" Type="http://schemas.openxmlformats.org/officeDocument/2006/relationships/hyperlink" Target="http://www.scienceshumaines.com/l-heritage-neolithique-entretien-avec-jean-guilaine_fr_27195.html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t.wikipedia.org/wiki/Rivoluzione_neolitica" TargetMode="External"/><Relationship Id="rId2" Type="http://schemas.openxmlformats.org/officeDocument/2006/relationships/hyperlink" Target="http://fr.wikipedia.org/wiki/R&#39429;olution_n&#39406;lithique" TargetMode="External"/><Relationship Id="rId3" Type="http://schemas.openxmlformats.org/officeDocument/2006/relationships/hyperlink" Target="http://en.wikipedia.org/wiki/Neolithic_Revolution#http://en.wikipedia.org/wiki/Neolithic_Revolution" TargetMode="External"/><Relationship Id="rId4" Type="http://schemas.openxmlformats.org/officeDocument/2006/relationships/hyperlink" Target="http://gallery.pianetascuola.it/albums/galleria/risorse/secondaria_primo/storia/scambi_civilta/05_m1_neolitica.pdf#http://gallery.pianetascuola.it/albums/galleria/risorse/secondaria_primo/storia/scambi_civilta/05_m1_neolitica.pdf" TargetMode="External"/><Relationship Id="rId5" Type="http://schemas.openxmlformats.org/officeDocument/2006/relationships/hyperlink" Target="http://www.okpedia.it/rivoluzione_neolitica" TargetMode="External"/><Relationship Id="rId6" Type="http://schemas.openxmlformats.org/officeDocument/2006/relationships/hyperlink" Target="http://digilander.libero.it/lordnihil/scuola/RIVOLUZIONE%20%20%20%20%20NEOLITICA.htm#http://digilander.libero.it/lordnihil/scuola/RIVOLUZIONE%2520%2520%2520%2520%2520NEOLITICA.htm" TargetMode="External"/><Relationship Id="rId7" Type="http://schemas.openxmlformats.org/officeDocument/2006/relationships/hyperlink" Target="http://www.beniculturali.it/mibac/export/MiBAC/sito-MiBAC/Contenuti/MibacUnif/Eventi/visualizza_asset.html_1147235390.html" TargetMode="External"/><Relationship Id="rId8" Type="http://schemas.openxmlformats.org/officeDocument/2006/relationships/hyperlink" Target="http://mappio.com/mindmap/maestrampm/preistoria" TargetMode="External"/><Relationship Id="rId9" Type="http://schemas.openxmlformats.org/officeDocument/2006/relationships/hyperlink" Target="http://digilander.libero.it/lordnihil/scuola/RIVOLUZIONE%20%20%20%20%20NEOLITICA.htm#http://digilander.libero.it/lordnihil/scuola/RIVOLUZIONE%2520%2520%2520%2520%2520NEOLITICA.htm" TargetMode="External"/><Relationship Id="rId10" Type="http://schemas.openxmlformats.org/officeDocument/2006/relationships/hyperlink" Target="http://www.google.it/search?client=safari&amp;rls=en&amp;q=Neolitico+nel+veneto&amp;ie=UTF-8&amp;oe=UTF-8&amp;redir_esc=&amp;ei=I944UJrONeTf4QS3yoDAAQ#http://www.google.it/search?client=safari&amp;rls=en&amp;q=Neolitico+nel+veneto&amp;ie=UTF-8&amp;oe=UTF-8&amp;redir_esc=&amp;ei=I944UJrONeTf4QS" TargetMode="External"/><Relationship Id="rId11" Type="http://schemas.openxmlformats.org/officeDocument/2006/relationships/hyperlink" Target="http://www.google.it/search?client=safari&amp;rls=en&amp;q=Neolitico+nel+veneto&amp;ie=UTF-8&amp;oe=UTF-8&amp;redir_esc=&amp;ei=I944UJrONeTf4QS3yoDAAQ#http://www.google.it/search?client=safari&amp;rls=en&amp;q=Neolitico+nel+veneto&amp;ie=UTF-8&amp;oe=UTF-8&amp;redir_esc=&amp;ei=I944UJrONeTf4QS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ibliolab.it/#http://www.bibliolab.it/" TargetMode="External"/><Relationship Id="rId2" Type="http://schemas.openxmlformats.org/officeDocument/2006/relationships/hyperlink" Target="http://www.exploratree.org.uk/" TargetMode="External"/><Relationship Id="rId3" Type="http://schemas.openxmlformats.org/officeDocument/2006/relationships/hyperlink" Target="http://www.innovascuola.gov.it/pillole/UD01_LO02.htm#http://www.innovascuola.gov.it/pillole/UD01_LO02.htm" TargetMode="External"/><Relationship Id="rId4" Type="http://schemas.openxmlformats.org/officeDocument/2006/relationships/hyperlink" Target="http://it.wikipedia.org/wiki/Agricoltura#http://it.wikipedia.org/wiki/Agricoltura" TargetMode="External"/><Relationship Id="rId5" Type="http://schemas.openxmlformats.org/officeDocument/2006/relationships/hyperlink" Target="http://it.wikipedia.org/wiki/Agricoltura#http://it.wikipedia.org/wiki/Agricoltura" TargetMode="External"/><Relationship Id="rId6" Type="http://schemas.openxmlformats.org/officeDocument/2006/relationships/hyperlink" Target="http://it.wikipedia.org/wiki/Agricoltura#http://it.wikipedia.org/wiki/Agricoltura" TargetMode="External"/><Relationship Id="rId7" Type="http://schemas.openxmlformats.org/officeDocument/2006/relationships/hyperlink" Target="http://www.treccani.it/enciclopedia/agricoltura_(Enciclopedia_delle_Scienze_Sociali)/#http://www.treccani.it/enciclopedia/agricoltura_(Enciclopedia_delle_Scienze_Sociali)/" TargetMode="External"/><Relationship Id="rId8" Type="http://schemas.openxmlformats.org/officeDocument/2006/relationships/hyperlink" Target="http://www.treccani.it/enciclopedia/agricoltura_(Enciclopedia_delle_Scienze_Sociali)/#http://www.treccani.it/enciclopedia/agricoltura_(Enciclopedia_delle_Scienze_Sociali)/" TargetMode="External"/><Relationship Id="rId9" Type="http://schemas.openxmlformats.org/officeDocument/2006/relationships/hyperlink" Target="http://kids.fao.org/agromaps/#http://kids.fao.org/agromaps/" TargetMode="External"/><Relationship Id="rId10" Type="http://schemas.openxmlformats.org/officeDocument/2006/relationships/hyperlink" Target="http://www.worldmapper.org/textindex/text_production.html#http://www.worldmapper.org/textindex/text_production.html" TargetMode="External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package" Target="../embeddings/oleObject1.docx"/><Relationship Id="rId14" Type="http://schemas.openxmlformats.org/officeDocument/2006/relationships/image" Target="../media/image6.wmf"/><Relationship Id="rId15" Type="http://schemas.openxmlformats.org/officeDocument/2006/relationships/image" Target="../media/image7.jpeg"/><Relationship Id="rId16" Type="http://schemas.openxmlformats.org/officeDocument/2006/relationships/package" Target="../embeddings/oleObject2.docx"/><Relationship Id="rId17" Type="http://schemas.openxmlformats.org/officeDocument/2006/relationships/image" Target="../media/image8.wmf"/><Relationship Id="rId18" Type="http://schemas.openxmlformats.org/officeDocument/2006/relationships/image" Target="../media/image9.jpeg"/><Relationship Id="rId19" Type="http://schemas.openxmlformats.org/officeDocument/2006/relationships/package" Target="../embeddings/oleObject3.docx"/><Relationship Id="rId20" Type="http://schemas.openxmlformats.org/officeDocument/2006/relationships/image" Target="../media/image10.wmf"/><Relationship Id="rId21" Type="http://schemas.openxmlformats.org/officeDocument/2006/relationships/image" Target="../media/image11.jpeg"/><Relationship Id="rId22" Type="http://schemas.openxmlformats.org/officeDocument/2006/relationships/package" Target="../embeddings/oleObject4.docx"/><Relationship Id="rId23" Type="http://schemas.openxmlformats.org/officeDocument/2006/relationships/image" Target="../media/image12.wmf"/><Relationship Id="rId24" Type="http://schemas.openxmlformats.org/officeDocument/2006/relationships/image" Target="../media/image5.jpeg"/><Relationship Id="rId25" Type="http://schemas.openxmlformats.org/officeDocument/2006/relationships/image" Target="../media/image7.jpeg"/><Relationship Id="rId26" Type="http://schemas.openxmlformats.org/officeDocument/2006/relationships/image" Target="../media/image7.jpe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imerime.com/#http://timerime.com/" TargetMode="External"/><Relationship Id="rId2" Type="http://schemas.openxmlformats.org/officeDocument/2006/relationships/hyperlink" Target="http://www.exploratree.org.uk/" TargetMode="External"/><Relationship Id="rId3" Type="http://schemas.openxmlformats.org/officeDocument/2006/relationships/hyperlink" Target="http://www.exploratree.org.uk/" TargetMode="External"/><Relationship Id="rId4" Type="http://schemas.openxmlformats.org/officeDocument/2006/relationships/hyperlink" Target="http://www.bibliolab.it/#http://www.bibliolab.it/" TargetMode="External"/><Relationship Id="rId5" Type="http://schemas.openxmlformats.org/officeDocument/2006/relationships/hyperlink" Target="http://www.bibliolab.it/#http://www.bibliolab.it/" TargetMode="External"/><Relationship Id="rId6" Type="http://schemas.openxmlformats.org/officeDocument/2006/relationships/hyperlink" Target="http://www.youtube.com/watch?v=94KqyOegsPI#http://www.youtube.com/watch?v=94KqyOegsPI" TargetMode="External"/><Relationship Id="rId7" Type="http://schemas.openxmlformats.org/officeDocument/2006/relationships/hyperlink" Target="http://www.youtube.com/watch?v=94KqyOegsPI#http://www.youtube.com/watch?v=94KqyOegsPI" TargetMode="External"/><Relationship Id="rId8" Type="http://schemas.openxmlformats.org/officeDocument/2006/relationships/hyperlink" Target="http://www.youtube.com/watch?v=h7ZrdE7py6A#http://www.youtube.com/watch?v=h7ZrdE7py6A" TargetMode="External"/><Relationship Id="rId9" Type="http://schemas.openxmlformats.org/officeDocument/2006/relationships/hyperlink" Target="http://www.lascaux.culture.fr/#http://www.lascaux.culture.fr/%23/fr/00.xml" TargetMode="External"/><Relationship Id="rId10" Type="http://schemas.openxmlformats.org/officeDocument/2006/relationships/hyperlink" Target="http://www.lascaux.culture.fr/#http://www.lascaux.culture.fr/%23/fr/00.xml" TargetMode="External"/><Relationship Id="rId11" Type="http://schemas.openxmlformats.org/officeDocument/2006/relationships/hyperlink" Target="http://www.focus.it/curiosita/arte/la-visita-virtuale-alla-grotta-di-lascaux_C11.aspx#http://www.focus.it/curiosita/arte/la-visita-virtuale-alla-grotta-di-lascaux_C11.aspx" TargetMode="External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11.jpeg"/><Relationship Id="rId17" Type="http://schemas.openxmlformats.org/officeDocument/2006/relationships/image" Target="../media/image9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42640" y="3276720"/>
            <a:ext cx="7620120" cy="2743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NSEGNARE PER TEMI E PROBLEMI CON LE RISORSE DIGITAL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ERNESTO PERI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3429000" y="6095880"/>
            <a:ext cx="2340000" cy="459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RCE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GIOVEDI 30 AGOSTO 2012</a:t>
            </a:r>
            <a:r>
              <a:rPr b="1" lang="it-IT" sz="1200" spc="-1" strike="noStrike">
                <a:solidFill>
                  <a:srgbClr val="ee782d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1371600" y="5181480"/>
            <a:ext cx="528480" cy="6764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600200" y="5410080"/>
            <a:ext cx="69343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Trebuchet MS"/>
              </a:rPr>
              <a:t>Clio ’92. Associazione di insegnanti e ricercatori sulla didattica della st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-4595760" y="-252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" descr="C:\Users\ivo\AppData\Roaming\PixelMetrics\CaptureWiz\LastCaptures\2012-08-18_10-43-01-353.png"/>
          <p:cNvPicPr/>
          <p:nvPr/>
        </p:nvPicPr>
        <p:blipFill>
          <a:blip r:embed="rId2"/>
          <a:stretch/>
        </p:blipFill>
        <p:spPr>
          <a:xfrm>
            <a:off x="533520" y="82440"/>
            <a:ext cx="78264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685800" y="1219320"/>
          <a:ext cx="7772400" cy="368928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cor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zz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tac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git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orse digit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m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cc"/>
                    </a:solidFill>
                  </a:tcPr>
                </a:tc>
              </a:tr>
              <a:tr h="330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 Passato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 mondo del IV millennio a. 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ondo 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alisi del   manu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ilazione tabella (indicatori + dat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aborazione mappa concettu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aborazione copione /diario 2: una giornata tipo  a Uru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bques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magini di riferimento in r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ruzione linea del tempo + localizzazione su planisf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azione su L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e valutare l’affidabilità di un sito storico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 metodo </a:t>
                      </a:r>
                      <a:r>
                        <a:rPr b="0" lang="it-IT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"/>
                        </a:rPr>
                        <a:t>SEVC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"/>
                        </a:rPr>
                        <a:t>Timer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3"/>
                        </a:rPr>
                        <a:t>Exploratree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4"/>
                        </a:rPr>
                        <a:t>URU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5"/>
                        </a:rPr>
                        <a:t>URUK la scrit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6"/>
                        </a:rPr>
                        <a:t>Scheda analisi siti web storia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it-IT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7"/>
                        </a:rPr>
                        <a:t>Scheda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30 h + eventuale completamento a ca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33cc"/>
                    </a:solidFill>
                  </a:tcPr>
                </a:tc>
              </a:tr>
            </a:tbl>
          </a:graphicData>
        </a:graphic>
      </p:graphicFrame>
      <p:sp>
        <p:nvSpPr>
          <p:cNvPr id="193" name="Text Box 41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 RIV. DEL Neolitico: LA  SCENEGGIATURA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47" descr="Senza titolo3"/>
          <p:cNvPicPr/>
          <p:nvPr/>
        </p:nvPicPr>
        <p:blipFill>
          <a:blip r:embed="rId8"/>
          <a:stretch/>
        </p:blipFill>
        <p:spPr>
          <a:xfrm>
            <a:off x="4267080" y="4114800"/>
            <a:ext cx="685800" cy="652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8" descr="Senza titolo4"/>
          <p:cNvPicPr/>
          <p:nvPr/>
        </p:nvPicPr>
        <p:blipFill>
          <a:blip r:embed="rId9"/>
          <a:stretch/>
        </p:blipFill>
        <p:spPr>
          <a:xfrm>
            <a:off x="7467480" y="4343400"/>
            <a:ext cx="666720" cy="57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6" name=""/>
          <p:cNvGraphicFramePr/>
          <p:nvPr/>
        </p:nvGraphicFramePr>
        <p:xfrm>
          <a:off x="685800" y="5289480"/>
          <a:ext cx="7772400" cy="1189080"/>
        </p:xfrm>
        <a:graphic>
          <a:graphicData uri="http://schemas.openxmlformats.org/drawingml/2006/table">
            <a:tbl>
              <a:tblPr/>
              <a:tblGrid>
                <a:gridCol w="1282680"/>
                <a:gridCol w="1359000"/>
                <a:gridCol w="1282680"/>
                <a:gridCol w="1282680"/>
                <a:gridCol w="1359000"/>
                <a:gridCol w="1206360"/>
              </a:tblGrid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razione passato 1 e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fronto mondo 1 e 2 Individuazione analogie /differenze + doman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ilazione tabelle comparative + consegne lavoro per ca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ruzione di uno schema comparativo con gli indicatori di riferi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33cc"/>
                    </a:solidFill>
                  </a:tcPr>
                </a:tc>
              </a:tr>
            </a:tbl>
          </a:graphicData>
        </a:graphic>
      </p:graphicFrame>
      <p:pic>
        <p:nvPicPr>
          <p:cNvPr id="197" name="Picture 120" descr="Senza titolo2"/>
          <p:cNvPicPr/>
          <p:nvPr/>
        </p:nvPicPr>
        <p:blipFill>
          <a:blip r:embed="rId10"/>
          <a:stretch/>
        </p:blipFill>
        <p:spPr>
          <a:xfrm>
            <a:off x="4038480" y="6172200"/>
            <a:ext cx="451080" cy="4572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21" descr="Senza titolo2"/>
          <p:cNvPicPr/>
          <p:nvPr/>
        </p:nvPicPr>
        <p:blipFill>
          <a:blip r:embed="rId11"/>
          <a:stretch/>
        </p:blipFill>
        <p:spPr>
          <a:xfrm>
            <a:off x="5410080" y="6172200"/>
            <a:ext cx="4510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457200" y="533520"/>
          <a:ext cx="8229600" cy="6073560"/>
        </p:xfrm>
        <a:graphic>
          <a:graphicData uri="http://schemas.openxmlformats.org/drawingml/2006/table">
            <a:tbl>
              <a:tblPr/>
              <a:tblGrid>
                <a:gridCol w="914400"/>
                <a:gridCol w="2286000"/>
                <a:gridCol w="1905120"/>
                <a:gridCol w="1143000"/>
                <a:gridCol w="1218960"/>
                <a:gridCol w="762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cor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zz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tac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git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orse digit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m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cc"/>
                    </a:solidFill>
                  </a:tcPr>
                </a:tc>
              </a:tr>
              <a:tr h="1592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costruzione del processo dal mondo 1 al mondo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 processo di neolitizzazion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madi e sedenta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ruzione linea del tempo con le info del manuale Individuazione problematizzazioni e spiegazion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ruzione modello di spiegazione (MdS) del manu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ruzione linea del tempo +mappe </a:t>
                      </a:r>
                      <a:r>
                        <a:rPr b="0" lang="it-IT" sz="12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Inviare i risultati al docente/compag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"/>
                        </a:rPr>
                        <a:t>Timer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"/>
                        </a:rPr>
                        <a:t>Explorat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cc"/>
                    </a:solidFill>
                  </a:tcPr>
                </a:tc>
              </a:tr>
              <a:tr h="74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Sintesi del processo + commento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dS</a:t>
                      </a:r>
                      <a:r>
                        <a:rPr b="0" lang="it-IT" sz="12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egne lavoro per ca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em su L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cc"/>
                    </a:solidFill>
                  </a:tcPr>
                </a:tc>
              </a:tr>
              <a:tr h="1812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rofondime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rofondimento su: a. Dove, quando e come nascono agricoltura e allevamento + le altre innovazioni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.Le direttrici  e i tempi di diffusione a scala mondiale? Centri primari e secondari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. Le fonti per la ricostruzione del processo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i storiografici semplific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3"/>
                        </a:rPr>
                        <a:t>Il Neolitico su </a:t>
                      </a:r>
                      <a:r>
                        <a:rPr b="0" lang="it-IT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4"/>
                        </a:rPr>
                        <a:t>Vikipe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5"/>
                        </a:rPr>
                        <a:t>Dispense Università Mil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cc"/>
                    </a:solidFill>
                  </a:tcPr>
                </a:tc>
              </a:tr>
              <a:tr h="89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io di caso: il Neolitico in Italia/Regione di riferi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i storiografici semplific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6"/>
                        </a:rPr>
                        <a:t>Neolitico in It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7"/>
                        </a:rPr>
                        <a:t>Il Ve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8"/>
                        </a:rPr>
                        <a:t>Soprintenden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cc"/>
                    </a:solidFill>
                  </a:tcPr>
                </a:tc>
              </a:tr>
              <a:tr h="74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Sintesi, commento e approfondimenti su L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33cc"/>
                    </a:solidFill>
                  </a:tcPr>
                </a:tc>
              </a:tr>
            </a:tbl>
          </a:graphicData>
        </a:graphic>
      </p:graphicFrame>
      <p:sp>
        <p:nvSpPr>
          <p:cNvPr id="200" name="Text Box 55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LE RIV. DEL Neolitico: LA  SCENEGGIATURA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188" descr="Senza titolo4"/>
          <p:cNvPicPr/>
          <p:nvPr/>
        </p:nvPicPr>
        <p:blipFill>
          <a:blip r:embed="rId9"/>
          <a:stretch/>
        </p:blipFill>
        <p:spPr>
          <a:xfrm>
            <a:off x="5105520" y="2133720"/>
            <a:ext cx="457200" cy="396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89" descr="Senza titolo4"/>
          <p:cNvPicPr/>
          <p:nvPr/>
        </p:nvPicPr>
        <p:blipFill>
          <a:blip r:embed="rId10"/>
          <a:stretch/>
        </p:blipFill>
        <p:spPr>
          <a:xfrm>
            <a:off x="5029200" y="3962520"/>
            <a:ext cx="457200" cy="396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90" descr="Senza titolo4"/>
          <p:cNvPicPr/>
          <p:nvPr/>
        </p:nvPicPr>
        <p:blipFill>
          <a:blip r:embed="rId11"/>
          <a:stretch/>
        </p:blipFill>
        <p:spPr>
          <a:xfrm>
            <a:off x="5029200" y="5410080"/>
            <a:ext cx="457200" cy="397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91" descr="Senza titolo3"/>
          <p:cNvPicPr/>
          <p:nvPr/>
        </p:nvPicPr>
        <p:blipFill>
          <a:blip r:embed="rId12"/>
          <a:stretch/>
        </p:blipFill>
        <p:spPr>
          <a:xfrm>
            <a:off x="5486400" y="3962520"/>
            <a:ext cx="457200" cy="434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92" descr="Senza titolo3"/>
          <p:cNvPicPr/>
          <p:nvPr/>
        </p:nvPicPr>
        <p:blipFill>
          <a:blip r:embed="rId13"/>
          <a:stretch/>
        </p:blipFill>
        <p:spPr>
          <a:xfrm>
            <a:off x="5562720" y="2133720"/>
            <a:ext cx="457200" cy="434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93" descr="Senza titolo3"/>
          <p:cNvPicPr/>
          <p:nvPr/>
        </p:nvPicPr>
        <p:blipFill>
          <a:blip r:embed="rId14"/>
          <a:stretch/>
        </p:blipFill>
        <p:spPr>
          <a:xfrm>
            <a:off x="5486400" y="5410080"/>
            <a:ext cx="457200" cy="4352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94" descr="Senza titolo2"/>
          <p:cNvPicPr/>
          <p:nvPr/>
        </p:nvPicPr>
        <p:blipFill>
          <a:blip r:embed="rId15"/>
          <a:stretch/>
        </p:blipFill>
        <p:spPr>
          <a:xfrm>
            <a:off x="5334120" y="6248520"/>
            <a:ext cx="450720" cy="457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95" descr="Senza titolo2"/>
          <p:cNvPicPr/>
          <p:nvPr/>
        </p:nvPicPr>
        <p:blipFill>
          <a:blip r:embed="rId16"/>
          <a:stretch/>
        </p:blipFill>
        <p:spPr>
          <a:xfrm>
            <a:off x="5334120" y="2819520"/>
            <a:ext cx="450720" cy="457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96" descr="Senza titolo12"/>
          <p:cNvPicPr/>
          <p:nvPr/>
        </p:nvPicPr>
        <p:blipFill>
          <a:blip r:embed="rId17"/>
          <a:stretch/>
        </p:blipFill>
        <p:spPr>
          <a:xfrm>
            <a:off x="6095880" y="533520"/>
            <a:ext cx="9144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762120" y="1066680"/>
          <a:ext cx="7767360" cy="5168880"/>
        </p:xfrm>
        <a:graphic>
          <a:graphicData uri="http://schemas.openxmlformats.org/drawingml/2006/table">
            <a:tbl>
              <a:tblPr/>
              <a:tblGrid>
                <a:gridCol w="761760"/>
                <a:gridCol w="1828800"/>
                <a:gridCol w="1981440"/>
                <a:gridCol w="1447560"/>
                <a:gridCol w="914400"/>
                <a:gridCol w="8334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cor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zz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tac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git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orse digit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m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cc"/>
                    </a:solidFill>
                  </a:tcPr>
                </a:tc>
              </a:tr>
              <a:tr h="258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arizz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chè il passaggio dalla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cia, la pesca e la raccolta, a comunit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à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tabili dedite all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’</a:t>
                      </a:r>
                      <a:r>
                        <a:rPr b="0" lang="it-IT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agricoltura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 all'</a:t>
                      </a:r>
                      <a:r>
                        <a:rPr b="0" lang="it-IT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allevamento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Perchè in quei luoghi e in quei tempi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li le conseguenz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chè parlare di rivoluzioni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e spiegazioni a confront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 classe divisa in gruppi discute le 5 domand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egne: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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rivere le risposte condivise,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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ustificarle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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otare ipotesi discordanti con relative prove e confutazion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aborazione pos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verbalizzazione della discussione (file doc) + p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acoltativo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ovare nel web materiali pro o contro le diverse tes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3"/>
                        </a:rPr>
                        <a:t>G. Chil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4"/>
                        </a:rPr>
                        <a:t>M. Livera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2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cc"/>
                    </a:solidFill>
                  </a:tcPr>
                </a:tc>
              </a:tr>
              <a:tr h="1027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ussione in plen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mande 1,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azione dei poster /pp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o della L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cc"/>
                    </a:solidFill>
                  </a:tcPr>
                </a:tc>
              </a:tr>
              <a:tr h="102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mande 3, 4,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azione dei poster /p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o della L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33cc"/>
                    </a:solidFill>
                  </a:tcPr>
                </a:tc>
              </a:tr>
            </a:tbl>
          </a:graphicData>
        </a:graphic>
      </p:graphicFrame>
      <p:sp>
        <p:nvSpPr>
          <p:cNvPr id="211" name="Text Box 96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LE RIV. DEL Neolitico: LA  SCENEGGIATURA 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164" descr="Senza titolo3"/>
          <p:cNvPicPr/>
          <p:nvPr/>
        </p:nvPicPr>
        <p:blipFill>
          <a:blip r:embed="rId5"/>
          <a:stretch/>
        </p:blipFill>
        <p:spPr>
          <a:xfrm>
            <a:off x="4191120" y="3581280"/>
            <a:ext cx="609480" cy="5796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5" descr="Senza titolo4"/>
          <p:cNvPicPr/>
          <p:nvPr/>
        </p:nvPicPr>
        <p:blipFill>
          <a:blip r:embed="rId6"/>
          <a:stretch/>
        </p:blipFill>
        <p:spPr>
          <a:xfrm>
            <a:off x="4724280" y="3505320"/>
            <a:ext cx="666720" cy="577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66" descr="Senza titolo2"/>
          <p:cNvPicPr/>
          <p:nvPr/>
        </p:nvPicPr>
        <p:blipFill>
          <a:blip r:embed="rId7"/>
          <a:stretch/>
        </p:blipFill>
        <p:spPr>
          <a:xfrm>
            <a:off x="4343400" y="4724280"/>
            <a:ext cx="676440" cy="685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67" descr="Senza titolo2"/>
          <p:cNvPicPr/>
          <p:nvPr/>
        </p:nvPicPr>
        <p:blipFill>
          <a:blip r:embed="rId8"/>
          <a:stretch/>
        </p:blipFill>
        <p:spPr>
          <a:xfrm>
            <a:off x="4343400" y="5791320"/>
            <a:ext cx="676440" cy="685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72" descr="Senza titolo12"/>
          <p:cNvPicPr/>
          <p:nvPr/>
        </p:nvPicPr>
        <p:blipFill>
          <a:blip r:embed="rId9"/>
          <a:stretch/>
        </p:blipFill>
        <p:spPr>
          <a:xfrm>
            <a:off x="6019920" y="1219320"/>
            <a:ext cx="9144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689040" y="1693800"/>
          <a:ext cx="7767720" cy="3471840"/>
        </p:xfrm>
        <a:graphic>
          <a:graphicData uri="http://schemas.openxmlformats.org/drawingml/2006/table">
            <a:tbl>
              <a:tblPr/>
              <a:tblGrid>
                <a:gridCol w="761760"/>
                <a:gridCol w="1828800"/>
                <a:gridCol w="1295640"/>
                <a:gridCol w="1295280"/>
                <a:gridCol w="1295280"/>
                <a:gridCol w="12909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cor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zz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tac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git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orse digit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m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cc"/>
                    </a:solidFill>
                  </a:tcPr>
                </a:tc>
              </a:tr>
              <a:tr h="29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utazione fin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orno al pres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uto) Verifica sulle conoscenze, abilità., competen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flessione s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sso di apprendimen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edità neolitiche nel pres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ve centrate sulle competen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eriali ad hoc sull’eredità del Neolitico + consegne di lavor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bienti digitali per le prove di (auto)valut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"/>
                        </a:rPr>
                        <a:t>Eredità. Un’idea da neolitici.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"/>
                        </a:rPr>
                        <a:t>Nel Neolitico la prima lotta di clas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3"/>
                        </a:rPr>
                        <a:t>Malattie nel Neolit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3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33cc"/>
                    </a:solidFill>
                  </a:tcPr>
                </a:tc>
              </a:tr>
            </a:tbl>
          </a:graphicData>
        </a:graphic>
      </p:graphicFrame>
      <p:sp>
        <p:nvSpPr>
          <p:cNvPr id="218" name="Text Box 35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LE RIV. DEL Neolitico: LA  SCENEGGIATURA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26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Consegne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-426600">
              <a:lnSpc>
                <a:spcPct val="9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</a:rPr>
              <a:t>La scrittura digita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200" indent="-3045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Redazione breve scheda multimediale sul Neolit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200" indent="-3045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struzione link  su mappa concettua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200" indent="-3045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Usare le immagini  per costruire: una scheda, un testo bre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200" indent="-3045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Costruzione ppt sul Neolitico con link alla ret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200" indent="-3045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Costruzione link sul testo orale  </a:t>
            </a:r>
            <a:r>
              <a:rPr b="0" lang="it-IT" sz="1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historycast.org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200" indent="-304560">
              <a:lnSpc>
                <a:spcPct val="90000"/>
              </a:lnSpc>
              <a:spcBef>
                <a:spcPts val="249"/>
              </a:spcBef>
              <a:buClr>
                <a:srgbClr val="00008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80"/>
                </a:solidFill>
                <a:uFillTx/>
                <a:latin typeface="Times New Roman"/>
              </a:rPr>
              <a:t>,,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-426600">
              <a:lnSpc>
                <a:spcPct val="9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ff0000"/>
                </a:solidFill>
                <a:latin typeface="Times New Roman"/>
              </a:rPr>
              <a:t>Esplorazi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Analizzare una home page di un sito sconosciuto e rispondere a domande sulle diverse funzioni e contenuti della pagin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storiadelleimmagini.it/2010/12/rivoluzione-neolitica-agricoltura-scrittura-prime-illustrazioni-scientifich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-426600">
              <a:lnSpc>
                <a:spcPct val="9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ff0000"/>
                </a:solidFill>
                <a:latin typeface="Times New Roman"/>
              </a:rPr>
              <a:t>Inqui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-426600">
              <a:lnSpc>
                <a:spcPct val="9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ff0000"/>
                </a:solidFill>
                <a:latin typeface="Times New Roman"/>
              </a:rPr>
              <a:t>a. Trovare risorse digitali coerenti con il  tema della riv. neolit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Verificare se il sito in questione serve ai fini del 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www.homosapiens.net/lang/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Trovare articoli  utili  per l’approfondimento del  Neolit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www.antikitera.net/news.asp?TAG=Neolitico&amp;tipo=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http://www.storiainrete.com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-426600">
              <a:lnSpc>
                <a:spcPct val="9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ff0000"/>
                </a:solidFill>
                <a:latin typeface="Times New Roman"/>
              </a:rPr>
              <a:t>b. Individuare nuove informazioni sulla riv.  neolt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200" indent="-3045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Times New Roman"/>
              </a:rPr>
              <a:t>Intervista con Jean </a:t>
            </a:r>
            <a:r>
              <a:rPr b="0" lang="it-IT" sz="800" spc="-1" strike="noStrike">
                <a:solidFill>
                  <a:srgbClr val="333333"/>
                </a:solidFill>
                <a:latin typeface="Arial"/>
              </a:rPr>
              <a:t>Jean Guilaine (vide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http://www.youtube.com/watch?v=5CHBqEOVe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200" indent="-3045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Times New Roman"/>
              </a:rPr>
              <a:t>Intervista con </a:t>
            </a:r>
            <a:r>
              <a:rPr b="0" lang="it-IT" sz="800" spc="-1" strike="noStrike">
                <a:solidFill>
                  <a:srgbClr val="333333"/>
                </a:solidFill>
                <a:latin typeface="Arial"/>
              </a:rPr>
              <a:t>Jean Guilaine (test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http://www.scienceshumaines.com/l-heritage-neolithique-entretien-avec-jean-guilaine_fr_27195.htm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Comment 5"/>
          <p:cNvSpPr/>
          <p:nvPr/>
        </p:nvSpPr>
        <p:spPr>
          <a:xfrm>
            <a:off x="-914400" y="-914400"/>
            <a:ext cx="1828800" cy="7855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eneva"/>
              </a:rPr>
              <a:t>Pippo Plu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3431880" y="45720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VERIF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LE RIV. DEL Neolitico: LA  SCENEGGIATURA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ff0000"/>
                </a:solidFill>
                <a:latin typeface="Times New Roman"/>
              </a:rPr>
              <a:t>c. Comprendere i criteri di costruzione, potenzialità   e  limiti delle risorse digit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it-IT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800" spc="-1" strike="noStrike">
                <a:solidFill>
                  <a:srgbClr val="000000"/>
                </a:solidFill>
                <a:latin typeface="Times New Roman"/>
              </a:rPr>
              <a:t>Confronto tra wiki italiano  e  non per il lemma ivoluzione neolit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it.wikipedia.org/wiki/Rivoluzione_neolit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fr.wikipedia.org/wiki/R騅olution_n駮lith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en.wikipedia.org/wiki/Neolithic_Revolu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it-IT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800" spc="-1" strike="noStrike">
                <a:solidFill>
                  <a:srgbClr val="000000"/>
                </a:solidFill>
                <a:latin typeface="Times New Roman"/>
              </a:rPr>
              <a:t>Analisi critica testi divulgativi  presenti nel web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gallery.pianetascuola.it/albums/galleria/risorse/secondaria_primo/storia/scambi_civilta/05_m1_neolitica.pd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http://www.okpedia.it/rivoluzione_neolit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http://digilander.libero.it/lordnihil/scuola/RIVOLUZIONE%20%20%20%20%20NEOLITICA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http://www.beniculturali.it/mibac/export/MiBAC/sito-MiBAC/Contenuti/MibacUnif/Eventi/visualizza_asset.html_1147235390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http://mappio.com/mindmap/maestrampm/preisto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http://www.atuttascuola.it/materiale/storia/storia_per_scuole_elementari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pagina google sul Neolitico nel Ven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dem su mappe concettu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http://web.mac.com/lucagervasutti/Radio_Stringher/Mappe_concettuali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80"/>
                </a:solidFill>
                <a:uFillTx/>
                <a:latin typeface="Times New Roman"/>
              </a:rPr>
              <a:t>http://web.mac.com/lucagervasutti/Radio_Stringher/Mappe_concettuali_files/La%20rivoluzione%20neolitica.j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80"/>
                </a:solidFill>
                <a:uFillTx/>
                <a:latin typeface="Times New Roman"/>
              </a:rPr>
              <a:t>http://cmapspublic.ihmc.us/rid=1198865480692_127516671_11224/l'et</a:t>
            </a:r>
            <a:r>
              <a:rPr b="0" lang="it-IT" sz="1000" spc="-1" strike="noStrike" u="sng">
                <a:solidFill>
                  <a:srgbClr val="000080"/>
                </a:solidFill>
                <a:uFillTx/>
                <a:latin typeface="Lucida Grande"/>
              </a:rPr>
              <a:t>�</a:t>
            </a:r>
            <a:r>
              <a:rPr b="0" lang="it-IT" sz="1000" spc="-1" strike="noStrike" u="sng">
                <a:solidFill>
                  <a:srgbClr val="000080"/>
                </a:solidFill>
                <a:uFillTx/>
                <a:latin typeface="Times New Roman"/>
              </a:rPr>
              <a:t>%20neolitica.cm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dem su vide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ttp://www.portaleragazzi.it/index.php/video?task=play&amp;id=88&amp;sl=cats&amp;layout=list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Riscrittura: testo riassuntivo a lato del vid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0000"/>
                </a:solidFill>
                <a:latin typeface="Times New Roman"/>
              </a:rPr>
              <a:t>Collaborazi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Produrre un testo collaborativo relativo al tema delle rivoluzioni del Neolitico usando le risorse digitali indicate nella consegn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0000"/>
                </a:solidFill>
                <a:latin typeface="Times New Roman"/>
              </a:rPr>
              <a:t>Riflessione fina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0000"/>
                </a:solidFill>
                <a:latin typeface="Times New Roman"/>
              </a:rPr>
              <a:t>Ascolto del testo orale + discussi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80"/>
                </a:solidFill>
                <a:uFillTx/>
                <a:latin typeface="Times New Roman"/>
              </a:rPr>
              <a:t>http://www.historycast.org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3431880" y="45720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VERIF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progettazione della sceneggiatura è possibile a tre condizioni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ff6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LE RIV. DEL Neolitico: PRESUPPOSTI E IMPLICAZIONI DELLA SCENEGGIA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Padronanza della storiografia sul tema scel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Padronanza delle modalità della mediazione didattic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Padronanza della cultura e delle competenze digitali per la storia insegna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adronanza della storiografia sul tema scelto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uale idea di Neolitico?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l Neolitico come rivolu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’invenzione dell’agricoltura e dell’alleva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ntrazione cronologica dei processi di trasformazi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ancellazione delle variabili spaziali: riferimento esclusivo al Vicino Ori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etrodatazione di aspetti dell’organizzazione sociale ed economica (proprietà privata, famiglia monogamica, mercato e commercio, affrancamento dalla natur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ff6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LE RIV. DEL Neolitico: PRESUPPOSTI E IMPLICAZIONI DELLA SCENEGGIA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cesso molto lungo (4/5000 anni), “inconsapevole”, non linea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Agricoltura e allevamento come risultati di conoscenze delle società di cacciatori-raccoglitori di processi graduali e di leggeri cambia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http://it.wikipedia.org/wiki/Domesticazione_delle_pi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http://www.treccani.it/enciclopedia/domesticazione_(Enciclopedia_delle_Scienze_Sociali)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7" descr="Immagine 4"/>
          <p:cNvPicPr/>
          <p:nvPr/>
        </p:nvPicPr>
        <p:blipFill>
          <a:blip r:embed="rId1"/>
          <a:stretch/>
        </p:blipFill>
        <p:spPr>
          <a:xfrm>
            <a:off x="1828800" y="152280"/>
            <a:ext cx="6066000" cy="670572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8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ff6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LE RIV. DEL Neolitico: PRESUPPOSTI E IMPLICAZIONI DELLA SCENEGGIA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9"/>
          <p:cNvSpPr/>
          <p:nvPr/>
        </p:nvSpPr>
        <p:spPr>
          <a:xfrm rot="5400000">
            <a:off x="6148440" y="4212000"/>
            <a:ext cx="3516840" cy="276480"/>
          </a:xfrm>
          <a:prstGeom prst="rect">
            <a:avLst/>
          </a:prstGeom>
          <a:solidFill>
            <a:srgbClr val="ff6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. Ponting, </a:t>
            </a: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Storia verde del mond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, Sei, Torino, 199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4"/>
          <p:cNvSpPr/>
          <p:nvPr/>
        </p:nvSpPr>
        <p:spPr>
          <a:xfrm>
            <a:off x="7393680" y="6521400"/>
            <a:ext cx="10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I. Mattozz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ff6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LE RIV. DEL Neolitico: PRESUPPOSTI E IMPLICAZIONI DELLA SCENEGGIA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80880" y="8380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Cosa non </a:t>
            </a: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è</a:t>
            </a: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 un problem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dea che una semplice domanda di informazioni sia un problema, che qualunque dubbio sia un problema, che per porre problemi basti chiedersi "perch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è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o per quali cause" i fatti siano accaduti. Sono confusioni che ostacolano la feconda concettualizzazione di problema storico e problematizzazione storic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domanda di informazioni che possa essere soddisfatta con il ricorso alle fonti non costituisce un problema: in questo caso la questione perde il suo significato una volta che sia trovata la risposta. Un dubbio su informazioni o su nessi di fatti esprime semplicemente un'incertezza e una carenza di informazioni: una volta risolto con una credenza, esso viene eliminat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er problema si intende una proposizione che, a partire da elementi fattuali, da caratteristiche e propriet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,  da nessi accettati come dati di base, muove alla ricerca di elementi fattuali e di nessi ignoti. La problematizzazione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è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l'attivit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conoscitiva tesa alla individuazione di elementi fattuali, di caratteristiche, di propriet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e di nessi dei fatti come valida base per scoprire </a:t>
            </a: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inferenzialmente elementi non emersi nella ricerca e che devono essere dimostrati mediante prove argomentate.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iuttosto che l'uso in senso lato di "problema", qui interessa la problematizzazione come condizione necessaria, preludio e motore delle operazioni volte alla ricerca di nessi capaci di dare ragione del verificarsi di certi fatti, cio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è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dirette alla </a:t>
            </a: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ricerca della spiegazione.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In tale ricerca lo storico perviene a soluzioni alle quali sa che sono possibili alternative, sicch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è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il carattere problematico non sta solo nella domanda ma soprattutto nella indecidibilit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tra le soluzioni alternative probabil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l carattere principale del problema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è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, dunque, che esso non viene eliminato o distrutto dalla soluzione che gli viene data da uno storico. Infatti, altri storici possono impostare diversamente il problema e dare soluzioni differenti. Il problema, quindi,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è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la dichiarazione di una situazione cognitiva che include la </a:t>
            </a: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possibilit</a:t>
            </a: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à</a:t>
            </a: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 di risposte alternativ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alla  domanda di  conoscenza di elementi fattuali e di nessi su cui le fonti non permettono di produrre informazioni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S’E’ UN  PROBLEMA IN STORIA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bb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INSEGNARE PER TEMI E PROBLEMI </a:t>
            </a:r>
            <a:br>
              <a:rPr sz="1200"/>
            </a:b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ON LE RISORSE DIGIT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0400" y="2209320"/>
            <a:ext cx="5867280" cy="4343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ccff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92d050"/>
                </a:solidFill>
                <a:latin typeface="Times New Roman"/>
              </a:rPr>
              <a:t>LE RIVOLUZIONI DEL NEOLITIC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92d050"/>
                </a:solidFill>
                <a:latin typeface="Times New Roman"/>
              </a:rPr>
              <a:t>SCENEGGIATURA DI UN PERCORSO DI ST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92d050"/>
                </a:solidFill>
                <a:latin typeface="Times New Roman"/>
              </a:rPr>
              <a:t>CON LE RISORSE DIGIT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PRESUPPOSTI E IMPLICAZIONI DELLA SCENEGGIATURA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7aaff6"/>
                </a:solidFill>
                <a:latin typeface="Times New Roman"/>
              </a:rPr>
              <a:t>OBIETTIVI  E COMPETENZE IN GIOCO: IL RUOLO DEL DIGIT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LCUNE CONSIDERAZIONI PER CONTINUARE LA RIFLESS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33280" y="5713560"/>
            <a:ext cx="22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4" descr="IMG_4151"/>
          <p:cNvPicPr/>
          <p:nvPr/>
        </p:nvPicPr>
        <p:blipFill>
          <a:blip r:embed="rId1"/>
          <a:stretch/>
        </p:blipFill>
        <p:spPr>
          <a:xfrm>
            <a:off x="0" y="2209680"/>
            <a:ext cx="3238560" cy="4343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Immagine 2"/>
          <p:cNvPicPr/>
          <p:nvPr/>
        </p:nvPicPr>
        <p:blipFill>
          <a:blip r:embed="rId2"/>
          <a:stretch/>
        </p:blipFill>
        <p:spPr>
          <a:xfrm>
            <a:off x="380880" y="6248520"/>
            <a:ext cx="2259000" cy="25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Object 4"/>
          <p:cNvGraphicFramePr/>
          <p:nvPr/>
        </p:nvGraphicFramePr>
        <p:xfrm>
          <a:off x="90360" y="609480"/>
          <a:ext cx="9039240" cy="555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609480"/>
                    <a:ext cx="9039240" cy="55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AutoShape 6"/>
          <p:cNvSpPr/>
          <p:nvPr/>
        </p:nvSpPr>
        <p:spPr>
          <a:xfrm>
            <a:off x="4648320" y="4419720"/>
            <a:ext cx="3047760" cy="2133360"/>
          </a:xfrm>
          <a:prstGeom prst="irregularSeal2">
            <a:avLst/>
          </a:prstGeom>
          <a:noFill/>
          <a:ln w="25560">
            <a:solidFill>
              <a:srgbClr val="ff37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5180760" y="5181480"/>
            <a:ext cx="170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li elem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1617840" y="-61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ff6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LE RIV. DEL Neolitico: PRESUPPOSTI E IMPLICAZIONI DELLA SCENEGGIA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Object 4"/>
          <p:cNvGraphicFramePr/>
          <p:nvPr/>
        </p:nvGraphicFramePr>
        <p:xfrm>
          <a:off x="442800" y="609480"/>
          <a:ext cx="8029800" cy="59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800" y="609480"/>
                    <a:ext cx="8029800" cy="59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AutoShape 6"/>
          <p:cNvSpPr/>
          <p:nvPr/>
        </p:nvSpPr>
        <p:spPr>
          <a:xfrm>
            <a:off x="5181480" y="3809880"/>
            <a:ext cx="3733920" cy="2514600"/>
          </a:xfrm>
          <a:prstGeom prst="irregularSeal2">
            <a:avLst/>
          </a:prstGeom>
          <a:noFill/>
          <a:ln w="25560">
            <a:solidFill>
              <a:srgbClr val="ff37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6096240" y="4740120"/>
            <a:ext cx="152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model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pl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ff6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LE RIV. DEL Neolitico: PRESUPPOSTI E IMPLICAZIONI DELLA SCENEGGIA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ff6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LE RIV. DEL NEOLITICO: PRESUPPOSTI E IMPLICAZIONI DELLA SCENEGGIA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Oval 3"/>
          <p:cNvSpPr/>
          <p:nvPr/>
        </p:nvSpPr>
        <p:spPr>
          <a:xfrm>
            <a:off x="3200400" y="2971800"/>
            <a:ext cx="2362320" cy="1828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33"/>
                </a:solidFill>
                <a:latin typeface="Arial"/>
              </a:rPr>
              <a:t>Rivolu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0033"/>
                </a:solidFill>
                <a:latin typeface="Arial"/>
              </a:rPr>
              <a:t>neolit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3276720" y="1676520"/>
            <a:ext cx="198108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540000" y="3200400"/>
            <a:ext cx="1518840" cy="459720"/>
          </a:xfrm>
          <a:prstGeom prst="rect">
            <a:avLst/>
          </a:prstGeom>
          <a:solidFill>
            <a:srgbClr val="ffff33"/>
          </a:solidFill>
          <a:ln w="93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eograf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613080" y="5562720"/>
            <a:ext cx="1989720" cy="45972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ingua/lin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6784560" y="3124080"/>
            <a:ext cx="1262880" cy="459720"/>
          </a:xfrm>
          <a:prstGeom prst="rect">
            <a:avLst/>
          </a:prstGeom>
          <a:solidFill>
            <a:srgbClr val="cc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cien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5869800" y="5486400"/>
            <a:ext cx="212688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toria dell’a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932400" y="533520"/>
            <a:ext cx="7032600" cy="825480"/>
          </a:xfrm>
          <a:prstGeom prst="rect">
            <a:avLst/>
          </a:prstGeom>
          <a:solidFill>
            <a:srgbClr val="ff63e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GETTARE PERCORSI INTERDISCIPLINAR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LE COMPETENZE CHI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0"/>
          <p:cNvSpPr/>
          <p:nvPr/>
        </p:nvSpPr>
        <p:spPr>
          <a:xfrm flipH="1">
            <a:off x="2285640" y="2133720"/>
            <a:ext cx="198108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1"/>
          <p:cNvSpPr/>
          <p:nvPr/>
        </p:nvSpPr>
        <p:spPr>
          <a:xfrm flipH="1">
            <a:off x="2209320" y="2209680"/>
            <a:ext cx="205740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2"/>
          <p:cNvSpPr/>
          <p:nvPr/>
        </p:nvSpPr>
        <p:spPr>
          <a:xfrm>
            <a:off x="4267080" y="2133720"/>
            <a:ext cx="236232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3"/>
          <p:cNvSpPr/>
          <p:nvPr/>
        </p:nvSpPr>
        <p:spPr>
          <a:xfrm>
            <a:off x="4267080" y="2133720"/>
            <a:ext cx="236232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4"/>
          <p:cNvSpPr/>
          <p:nvPr/>
        </p:nvSpPr>
        <p:spPr>
          <a:xfrm flipV="1">
            <a:off x="6629400" y="35809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5"/>
          <p:cNvSpPr/>
          <p:nvPr/>
        </p:nvSpPr>
        <p:spPr>
          <a:xfrm flipH="1">
            <a:off x="2209320" y="533412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6"/>
          <p:cNvSpPr/>
          <p:nvPr/>
        </p:nvSpPr>
        <p:spPr>
          <a:xfrm flipH="1" flipV="1">
            <a:off x="2285640" y="3580920"/>
            <a:ext cx="434340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7"/>
          <p:cNvSpPr/>
          <p:nvPr/>
        </p:nvSpPr>
        <p:spPr>
          <a:xfrm flipV="1">
            <a:off x="2209680" y="3580920"/>
            <a:ext cx="441972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8"/>
          <p:cNvSpPr/>
          <p:nvPr/>
        </p:nvSpPr>
        <p:spPr>
          <a:xfrm flipH="1">
            <a:off x="2285640" y="35812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9"/>
          <p:cNvSpPr/>
          <p:nvPr/>
        </p:nvSpPr>
        <p:spPr>
          <a:xfrm flipV="1">
            <a:off x="2209680" y="3580920"/>
            <a:ext cx="7632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5" descr="Immagine 3"/>
          <p:cNvPicPr/>
          <p:nvPr/>
        </p:nvPicPr>
        <p:blipFill>
          <a:blip r:embed="rId1"/>
          <a:stretch/>
        </p:blipFill>
        <p:spPr>
          <a:xfrm>
            <a:off x="1143000" y="892080"/>
            <a:ext cx="6870600" cy="525960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6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ff6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LE RIV. DEL Neolitico: PRESUPPOSTI E IMPLICAZIONI DELLA SCENEGGIA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Immagine 2"/>
          <p:cNvPicPr/>
          <p:nvPr/>
        </p:nvPicPr>
        <p:blipFill>
          <a:blip r:embed="rId1"/>
          <a:stretch/>
        </p:blipFill>
        <p:spPr>
          <a:xfrm>
            <a:off x="609480" y="914400"/>
            <a:ext cx="7658280" cy="55198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6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ff6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LE RIV. DEL Neolitico: PRESUPPOSTI E IMPLICAZIONI DELLA SCENEGGIA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Times New Roman"/>
              </a:rPr>
              <a:t>Usare  strumenti digitali p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4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0000"/>
                </a:solidFill>
                <a:latin typeface="Times New Roman"/>
              </a:rPr>
              <a:t>a.  Costru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4341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abelle e grafi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4341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Linee del tempo semplici e comple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4341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arte e metacar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4341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Mappe concettu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4341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4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0000"/>
                </a:solidFill>
                <a:latin typeface="Times New Roman"/>
              </a:rPr>
              <a:t>b. Imparare dal we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4341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onoscere i principali siti/risorse  di riferimento per gli ambiti tematici studiat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4341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Esplorare interfacce nuove individuando contenuti, funzioni, possibilit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4341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Selezionare risorse digitali coerenti con un tema di ricerca: informazioni, dati, testi, immagini, video, file audi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4341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Riconoscere e individuare nuove informazioni rispetto a quanto proposto dal manuale cartaceo</a:t>
            </a:r>
            <a:r>
              <a:rPr b="1" i="1" lang="it-IT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4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0000"/>
                </a:solidFill>
                <a:latin typeface="Times New Roman"/>
              </a:rPr>
              <a:t>c. Comunicare e condividere informazioni, dati, percors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4341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rodurre report e presentazioni in formati diver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4341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Associare link  a testi di formati diver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4341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rodurre semplici iperte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4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0000"/>
                </a:solidFill>
                <a:latin typeface="Times New Roman"/>
              </a:rPr>
              <a:t>d. Produrre in modo collaborativo informazioni, analisi,  testi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Le attività dei punti precedenti svolte a coppie/o gruppi di studen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4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0000"/>
                </a:solidFill>
                <a:latin typeface="Times New Roman"/>
              </a:rPr>
              <a:t>Comprendere i criteri di costruzione, potenzialità   e  limiti delle risorse digit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Valutare l’affidabilità  di una informazione  digitale sul passato  usando criteri da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omparare informazioni digitali differenti sul pass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omparare informazioni  e testi storiografici cartacei con quelli digit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riticare contenuti, organizzazione e modalità di presentazione di informazioni  digitali sul passat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OBIETTIVI  E COMPETENZE IN GIOCO: IL RUOLO DEL DIGIT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LE RIV. DEL Neolitico: OBIETTIVI E COMPETENZE IN GIO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GUIDELINE PER GLI INSEGNA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e devi introdurre le tecnologie nella scuola, definisci innanzitutto bene cosa ti aspetti da lo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na volta definite bene le finalità, prepara sin dall’inizio coerenti e articolati strumenti di valutazi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icorda che sono le metodologie, non le tecnologie che fanno la differen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Non trincerarti dietro la giustificazione che “le tecnologie vanno introdotte perché piacciono ai giovani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istogli l‘attenzione dalla tecnologia specif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icorda che, per apprendere, gli alunni hanno la necessità di essere guidati verso obiettivi chiaramente defini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ieni sempre sotto controllo il sovraccarico tecnologico e cogni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iù multimedialità non significa più apprendi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ediligi esperienze ragionevolmente brev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avorisci l’autoefficacia attraverso una padronanza gui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LE RIV. DEL Neolitico:  ALCUNE CONSIDERAZIONI PER CONTINUARE LA RIFLESS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6175440" y="6265800"/>
            <a:ext cx="1847880" cy="33732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A. CALVANI,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IFERIMENTI BIBLIOGRAF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762012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it-IT" sz="1000" spc="-1" strike="noStrike">
                <a:solidFill>
                  <a:srgbClr val="ff0033"/>
                </a:solidFill>
                <a:latin typeface="Times New Roman"/>
              </a:rPr>
              <a:t>Storiografia sulla rivoluzione neolt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AA. VV., </a:t>
            </a: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Dizionario di preistoria: I. Culture, vita quotidiana, metodologie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, Einaudi, Torino, 199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V. Gordon Childe, </a:t>
            </a: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Il progresso nel mondo antico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, Einaudi, Torino, 1949, pp.53-75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M. Cipolla, </a:t>
            </a: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Uomini, tecniche, economie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, Feltrinelli, Milano, 1978, pp. 10-2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J. Diamond, </a:t>
            </a: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Armi, acciaio, malattie,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Einaudi, Tor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200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F.Giusti,</a:t>
            </a: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La nascita dell’agricoltura. Aree, tipologie,modelli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, Donzelli, Roma, 1996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J. Guilaine, </a:t>
            </a: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La “rivoluzione” neolitica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, in V. Castronovo (a cura di), </a:t>
            </a: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Storia dell’economia mondiale, vol.I: Dall’antichità al Medioevo. Dal Neolitico agli albori del primo millennio,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Laterza, Roma-Bari, 1996, pp. 1-26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M. Liverani, </a:t>
            </a: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Rivoluzione neolitica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(1996), http://www.treccani.it/enciclopedia/rivoluzioneneolitica_(Enciclopedia_delle_Scienze_Sociali)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M. Liverani, </a:t>
            </a: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Antico Oriente. Storia, società, economia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. Nuova ed. aggiornata. Biblioteca storica Laterza. Roma-Bari: Laterza, 2011, pp. 5-85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C. Ponting, </a:t>
            </a: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Storia verde del mondo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, Sei, Torino, 1992, pp.44-105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Con riferimento  al Neolitico europeo, si possono consultare i contributi contenuti nella quarta parte di J. Guilaine, S Settis (a cura di), </a:t>
            </a: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Storia d’Europa. 2, Preistoria e antichità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, vol. I,, Einaudi, Torino 1994, pp. 145-30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0033"/>
                </a:solidFill>
                <a:latin typeface="Times New Roman"/>
              </a:rPr>
              <a:t>Mediazione didatt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A. Brusa, </a:t>
            </a:r>
            <a:r>
              <a:rPr b="0" i="1" lang="it-IT" sz="1000" spc="-1" strike="noStrike">
                <a:solidFill>
                  <a:srgbClr val="000000"/>
                </a:solidFill>
                <a:latin typeface="Tahoma"/>
              </a:rPr>
              <a:t>Insegnare la storia pi</a:t>
            </a: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ù</a:t>
            </a:r>
            <a:r>
              <a:rPr b="0" i="1" lang="it-IT" sz="1000" spc="-1" strike="noStrike">
                <a:solidFill>
                  <a:srgbClr val="000000"/>
                </a:solidFill>
                <a:latin typeface="Tahoma"/>
              </a:rPr>
              <a:t> antica del mondo. Backstage dell</a:t>
            </a: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it-IT" sz="1000" spc="-1" strike="noStrike">
                <a:solidFill>
                  <a:srgbClr val="000000"/>
                </a:solidFill>
                <a:latin typeface="Tahoma"/>
              </a:rPr>
              <a:t>Atlante delle storie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, Vol 1, Palumbo, Palermo, 201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I. Mattozzi, G. Di Tonto</a:t>
            </a: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, Insegnare storia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, courseware ipermediale,MPI e Dipartimento di discipline storiche - Università di Bologna, Roma-Bologna, 199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L. Sarti, M. Tarantini, (a cura di), </a:t>
            </a: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Evoluzione, preistoria dell'uomo e società contemporanea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, Carocci, Roma, 2007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M. Tarantini, (a cura di), </a:t>
            </a: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Il Neolitico, la prima grande trasformazione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, in </a:t>
            </a: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Mundus. Rivista di didattica della storia, 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I, 1, Palumbo editore, Palermo, 2008, pp. 74-165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0033"/>
                </a:solidFill>
                <a:latin typeface="Times New Roman"/>
              </a:rPr>
              <a:t>Competenze digit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A. Calvani, A. Fini, M. Ranieri,  </a:t>
            </a: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La competenza digitale. Prove per la scuola primaria e secondaria, 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Erikson, Trento, 201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P. Ferri,</a:t>
            </a: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 Nativi digitali, 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B. Mondadori, Milano, 201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Il gruppo di ricerca sulla Digital Competence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http://www.digitalcompetence.org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7" descr="antropologist"/>
          <p:cNvPicPr/>
          <p:nvPr/>
        </p:nvPicPr>
        <p:blipFill>
          <a:blip r:embed="rId1"/>
          <a:stretch/>
        </p:blipFill>
        <p:spPr>
          <a:xfrm>
            <a:off x="2184480" y="252360"/>
            <a:ext cx="477504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609480" y="2971800"/>
            <a:ext cx="7620120" cy="297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52280" y="1219320"/>
            <a:ext cx="2581560" cy="855720"/>
          </a:xfrm>
          <a:prstGeom prst="rect">
            <a:avLst/>
          </a:prstGeom>
          <a:solidFill>
            <a:srgbClr val="99ff6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Comic Sans MS"/>
              </a:rPr>
              <a:t>Stato delle cose inizia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6248520" y="1143000"/>
            <a:ext cx="2727360" cy="855720"/>
          </a:xfrm>
          <a:prstGeom prst="rect">
            <a:avLst/>
          </a:prstGeom>
          <a:solidFill>
            <a:srgbClr val="99ff6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Comic Sans MS"/>
              </a:rPr>
              <a:t>Stato delle cose fina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905120" y="3124080"/>
            <a:ext cx="4572000" cy="457200"/>
          </a:xfrm>
          <a:prstGeom prst="rect">
            <a:avLst/>
          </a:prstGeom>
          <a:solidFill>
            <a:srgbClr val="ff63e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Comic Sans MS"/>
              </a:rPr>
              <a:t>Ricostruzione del process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6"/>
          <p:cNvSpPr/>
          <p:nvPr/>
        </p:nvSpPr>
        <p:spPr>
          <a:xfrm>
            <a:off x="4191120" y="3657600"/>
            <a:ext cx="9360" cy="426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590920" y="4038480"/>
            <a:ext cx="3512880" cy="343080"/>
          </a:xfrm>
          <a:prstGeom prst="rect">
            <a:avLst/>
          </a:prstGeom>
          <a:solidFill>
            <a:srgbClr val="ff63e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algn="ctr">
              <a:spcBef>
                <a:spcPts val="1312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Times New Roman"/>
              </a:rPr>
              <a:t>Problematizzazion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2438280" y="5029200"/>
            <a:ext cx="3513240" cy="762120"/>
          </a:xfrm>
          <a:prstGeom prst="rect">
            <a:avLst/>
          </a:prstGeom>
          <a:solidFill>
            <a:srgbClr val="ff63e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spcBef>
                <a:spcPts val="1312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Times New Roman"/>
              </a:rPr>
              <a:t>Spiegazion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9"/>
          <p:cNvSpPr/>
          <p:nvPr/>
        </p:nvSpPr>
        <p:spPr>
          <a:xfrm>
            <a:off x="4191120" y="4648320"/>
            <a:ext cx="0" cy="433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2514600" y="6134040"/>
            <a:ext cx="3513240" cy="343080"/>
          </a:xfrm>
          <a:prstGeom prst="rect">
            <a:avLst/>
          </a:prstGeom>
          <a:solidFill>
            <a:srgbClr val="70ff4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algn="ctr">
              <a:spcBef>
                <a:spcPts val="1312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Times New Roman"/>
              </a:rPr>
              <a:t>Riflessione sul presen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LE RIV. DEL Neolitico: LA  SCENEGGIATUR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3048120" y="533520"/>
            <a:ext cx="29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Times New Roman"/>
              </a:rPr>
              <a:t>Preconoscenze + motiva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3"/>
          <p:cNvSpPr/>
          <p:nvPr/>
        </p:nvSpPr>
        <p:spPr>
          <a:xfrm>
            <a:off x="4191120" y="5738760"/>
            <a:ext cx="0" cy="433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1447920" y="2438280"/>
            <a:ext cx="5715000" cy="457200"/>
          </a:xfrm>
          <a:prstGeom prst="rect">
            <a:avLst/>
          </a:prstGeom>
          <a:solidFill>
            <a:srgbClr val="84ff63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omic Sans MS"/>
              </a:rPr>
              <a:t>Comparazione: Mutamenti e permanenz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5"/>
          <p:cNvSpPr/>
          <p:nvPr/>
        </p:nvSpPr>
        <p:spPr>
          <a:xfrm>
            <a:off x="68580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6"/>
          <p:cNvSpPr/>
          <p:nvPr/>
        </p:nvSpPr>
        <p:spPr>
          <a:xfrm flipH="1">
            <a:off x="723888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3352680" y="990720"/>
            <a:ext cx="2362320" cy="457200"/>
          </a:xfrm>
          <a:prstGeom prst="rect">
            <a:avLst/>
          </a:prstGeom>
          <a:solidFill>
            <a:srgbClr val="70ff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Tematizz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8"/>
          <p:cNvSpPr/>
          <p:nvPr/>
        </p:nvSpPr>
        <p:spPr>
          <a:xfrm>
            <a:off x="2590920" y="4038480"/>
            <a:ext cx="3512880" cy="343080"/>
          </a:xfrm>
          <a:prstGeom prst="rect">
            <a:avLst/>
          </a:prstGeom>
          <a:solidFill>
            <a:srgbClr val="ff63e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algn="ctr">
              <a:spcBef>
                <a:spcPts val="1312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Times New Roman"/>
              </a:rPr>
              <a:t>Problematizzazion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04920" y="1219320"/>
            <a:ext cx="2438280" cy="855720"/>
          </a:xfrm>
          <a:prstGeom prst="rect">
            <a:avLst/>
          </a:prstGeom>
          <a:solidFill>
            <a:srgbClr val="99ff6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Comic Sans MS"/>
              </a:rPr>
              <a:t>Stato delle cose inizia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172200" y="1066680"/>
            <a:ext cx="2727360" cy="855720"/>
          </a:xfrm>
          <a:prstGeom prst="rect">
            <a:avLst/>
          </a:prstGeom>
          <a:solidFill>
            <a:srgbClr val="99ff6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Comic Sans MS"/>
              </a:rPr>
              <a:t>Stato delle cose fina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2209680" y="3200400"/>
            <a:ext cx="4572000" cy="457200"/>
          </a:xfrm>
          <a:prstGeom prst="rect">
            <a:avLst/>
          </a:prstGeom>
          <a:solidFill>
            <a:srgbClr val="ff63e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omic Sans MS"/>
              </a:rPr>
              <a:t>Ricostruzione del process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6"/>
          <p:cNvSpPr/>
          <p:nvPr/>
        </p:nvSpPr>
        <p:spPr>
          <a:xfrm>
            <a:off x="4343400" y="3581280"/>
            <a:ext cx="9360" cy="427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685800" y="6019920"/>
            <a:ext cx="7467480" cy="609480"/>
          </a:xfrm>
          <a:prstGeom prst="rect">
            <a:avLst/>
          </a:prstGeom>
          <a:solidFill>
            <a:srgbClr val="70ff4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omic Sans MS"/>
              </a:rPr>
              <a:t>Riflessione sul presente, sulle preconoscenze, sul processo di apprendi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LE RIV. DEL Neolitico: LA  SCENEGGIATUR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3048120" y="533520"/>
            <a:ext cx="29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Times New Roman"/>
              </a:rPr>
              <a:t>Preconoscenze + motiva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3"/>
          <p:cNvSpPr/>
          <p:nvPr/>
        </p:nvSpPr>
        <p:spPr>
          <a:xfrm>
            <a:off x="4343400" y="5638680"/>
            <a:ext cx="1440" cy="433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1447920" y="2438280"/>
            <a:ext cx="5715000" cy="457200"/>
          </a:xfrm>
          <a:prstGeom prst="rect">
            <a:avLst/>
          </a:prstGeom>
          <a:solidFill>
            <a:srgbClr val="84ff63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omic Sans MS"/>
              </a:rPr>
              <a:t>Comparazione: Mutamenti e permanenz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5"/>
          <p:cNvSpPr/>
          <p:nvPr/>
        </p:nvSpPr>
        <p:spPr>
          <a:xfrm>
            <a:off x="609480" y="22096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6"/>
          <p:cNvSpPr/>
          <p:nvPr/>
        </p:nvSpPr>
        <p:spPr>
          <a:xfrm flipH="1">
            <a:off x="7543800" y="22860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7"/>
          <p:cNvSpPr/>
          <p:nvPr/>
        </p:nvSpPr>
        <p:spPr>
          <a:xfrm>
            <a:off x="3352680" y="990720"/>
            <a:ext cx="2362320" cy="457200"/>
          </a:xfrm>
          <a:prstGeom prst="rect">
            <a:avLst/>
          </a:prstGeom>
          <a:solidFill>
            <a:srgbClr val="70ff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tematizz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304920" y="990720"/>
            <a:ext cx="2666880" cy="1084320"/>
          </a:xfrm>
          <a:prstGeom prst="rect">
            <a:avLst/>
          </a:prstGeom>
          <a:solidFill>
            <a:srgbClr val="99ff6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Il  MONDO PALEOLITIC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STUDIO DI CA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9"/>
          <p:cNvSpPr/>
          <p:nvPr/>
        </p:nvSpPr>
        <p:spPr>
          <a:xfrm>
            <a:off x="3276720" y="990720"/>
            <a:ext cx="2666880" cy="457200"/>
          </a:xfrm>
          <a:prstGeom prst="rect">
            <a:avLst/>
          </a:prstGeom>
          <a:solidFill>
            <a:srgbClr val="70ff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LE RIV. NEOLITI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1"/>
          <p:cNvSpPr/>
          <p:nvPr/>
        </p:nvSpPr>
        <p:spPr>
          <a:xfrm>
            <a:off x="6172200" y="990720"/>
            <a:ext cx="2743200" cy="1143000"/>
          </a:xfrm>
          <a:prstGeom prst="rect">
            <a:avLst/>
          </a:prstGeom>
          <a:solidFill>
            <a:srgbClr val="99ff6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IL MONDO NEL IV MILLENNI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STUDIO DI CA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22"/>
          <p:cNvSpPr/>
          <p:nvPr/>
        </p:nvSpPr>
        <p:spPr>
          <a:xfrm>
            <a:off x="1219320" y="2438280"/>
            <a:ext cx="6172200" cy="457200"/>
          </a:xfrm>
          <a:prstGeom prst="rect">
            <a:avLst/>
          </a:prstGeom>
          <a:solidFill>
            <a:srgbClr val="84ff63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omic Sans MS"/>
              </a:rPr>
              <a:t>Comparazione: LA SCELTA DEGLI  INDICATOR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23"/>
          <p:cNvSpPr/>
          <p:nvPr/>
        </p:nvSpPr>
        <p:spPr>
          <a:xfrm>
            <a:off x="2209680" y="3200400"/>
            <a:ext cx="4572000" cy="457200"/>
          </a:xfrm>
          <a:prstGeom prst="rect">
            <a:avLst/>
          </a:prstGeom>
          <a:solidFill>
            <a:srgbClr val="ff63e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LE INNOVAZIONI NEOLITI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4"/>
          <p:cNvSpPr/>
          <p:nvPr/>
        </p:nvSpPr>
        <p:spPr>
          <a:xfrm>
            <a:off x="2362320" y="3886200"/>
            <a:ext cx="4114800" cy="609480"/>
          </a:xfrm>
          <a:prstGeom prst="rect">
            <a:avLst/>
          </a:prstGeom>
          <a:solidFill>
            <a:srgbClr val="ff63e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PERCHE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LA NEOLITIZZAZIONE?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971800" y="4952880"/>
            <a:ext cx="2971800" cy="685800"/>
          </a:xfrm>
          <a:prstGeom prst="rect">
            <a:avLst/>
          </a:prstGeom>
          <a:solidFill>
            <a:srgbClr val="ff63e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LA TESI DI M. LIVER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36"/>
          <p:cNvSpPr/>
          <p:nvPr/>
        </p:nvSpPr>
        <p:spPr>
          <a:xfrm>
            <a:off x="4343400" y="4495680"/>
            <a:ext cx="1440" cy="433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9"/>
          <p:cNvSpPr/>
          <p:nvPr/>
        </p:nvSpPr>
        <p:spPr>
          <a:xfrm>
            <a:off x="457200" y="3048120"/>
            <a:ext cx="8305920" cy="3047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248520" y="1219320"/>
            <a:ext cx="2581200" cy="855720"/>
          </a:xfrm>
          <a:prstGeom prst="rect">
            <a:avLst/>
          </a:prstGeom>
          <a:solidFill>
            <a:srgbClr val="84ff63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Comic Sans MS"/>
              </a:rPr>
              <a:t>Situazione 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244440" y="1219320"/>
            <a:ext cx="2727360" cy="855720"/>
          </a:xfrm>
          <a:prstGeom prst="rect">
            <a:avLst/>
          </a:prstGeom>
          <a:solidFill>
            <a:srgbClr val="99ff6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Comic Sans MS"/>
              </a:rPr>
              <a:t>Situazione 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2590920" y="3809880"/>
            <a:ext cx="3512880" cy="343080"/>
          </a:xfrm>
          <a:prstGeom prst="rect">
            <a:avLst/>
          </a:prstGeom>
          <a:solidFill>
            <a:srgbClr val="ff63e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algn="ctr">
              <a:spcBef>
                <a:spcPts val="1312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Times New Roman"/>
              </a:rPr>
              <a:t>Problematizzazion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09480" y="4648320"/>
            <a:ext cx="2971800" cy="457200"/>
          </a:xfrm>
          <a:prstGeom prst="rect">
            <a:avLst/>
          </a:prstGeom>
          <a:solidFill>
            <a:srgbClr val="ff63e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algn="ctr">
              <a:spcBef>
                <a:spcPts val="1312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Times New Roman"/>
              </a:rPr>
              <a:t>Spiegazione (a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2514600" y="6286680"/>
            <a:ext cx="3513240" cy="342720"/>
          </a:xfrm>
          <a:prstGeom prst="rect">
            <a:avLst/>
          </a:prstGeom>
          <a:solidFill>
            <a:srgbClr val="84ff63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Comic Sans MS"/>
              </a:rPr>
              <a:t>Riflessione sul presen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3048120" y="609480"/>
            <a:ext cx="29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Times New Roman"/>
              </a:rPr>
              <a:t>Preconoscenze + motiva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447920" y="2438280"/>
            <a:ext cx="5715000" cy="457200"/>
          </a:xfrm>
          <a:prstGeom prst="rect">
            <a:avLst/>
          </a:prstGeom>
          <a:solidFill>
            <a:srgbClr val="84ff63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omic Sans MS"/>
              </a:rPr>
              <a:t>Comparazione: Mutamenti e permanenz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68580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5"/>
          <p:cNvSpPr/>
          <p:nvPr/>
        </p:nvSpPr>
        <p:spPr>
          <a:xfrm flipH="1">
            <a:off x="723888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5105520" y="4648320"/>
            <a:ext cx="2971800" cy="457200"/>
          </a:xfrm>
          <a:prstGeom prst="rect">
            <a:avLst/>
          </a:prstGeom>
          <a:solidFill>
            <a:srgbClr val="ff63e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algn="ctr">
              <a:spcBef>
                <a:spcPts val="1312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Times New Roman"/>
              </a:rPr>
              <a:t>Spiegazione (b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1523880" y="5486400"/>
            <a:ext cx="5715000" cy="457200"/>
          </a:xfrm>
          <a:prstGeom prst="rect">
            <a:avLst/>
          </a:prstGeom>
          <a:solidFill>
            <a:srgbClr val="ff63e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omic Sans MS"/>
              </a:rPr>
              <a:t>Comparazione dei modelli:analogie/differenz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20"/>
          <p:cNvSpPr/>
          <p:nvPr/>
        </p:nvSpPr>
        <p:spPr>
          <a:xfrm>
            <a:off x="838080" y="52578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21"/>
          <p:cNvSpPr/>
          <p:nvPr/>
        </p:nvSpPr>
        <p:spPr>
          <a:xfrm flipH="1">
            <a:off x="7391520" y="53341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5"/>
          <p:cNvSpPr/>
          <p:nvPr/>
        </p:nvSpPr>
        <p:spPr>
          <a:xfrm>
            <a:off x="3352680" y="990720"/>
            <a:ext cx="2362320" cy="457200"/>
          </a:xfrm>
          <a:prstGeom prst="rect">
            <a:avLst/>
          </a:prstGeom>
          <a:solidFill>
            <a:srgbClr val="70ff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tematizz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8"/>
          <p:cNvSpPr/>
          <p:nvPr/>
        </p:nvSpPr>
        <p:spPr>
          <a:xfrm>
            <a:off x="1905120" y="3124080"/>
            <a:ext cx="4572000" cy="457200"/>
          </a:xfrm>
          <a:prstGeom prst="rect">
            <a:avLst/>
          </a:prstGeom>
          <a:solidFill>
            <a:srgbClr val="ff63e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Comic Sans MS"/>
              </a:rPr>
              <a:t>Ricostruzione del process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9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LE RIV. DEL Neolitico: LA  SCENEGGIATURA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30"/>
          <p:cNvSpPr/>
          <p:nvPr/>
        </p:nvSpPr>
        <p:spPr>
          <a:xfrm>
            <a:off x="3733920" y="4876920"/>
            <a:ext cx="1218960" cy="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5105520" y="4648320"/>
            <a:ext cx="2971800" cy="457200"/>
          </a:xfrm>
          <a:prstGeom prst="rect">
            <a:avLst/>
          </a:prstGeom>
          <a:solidFill>
            <a:srgbClr val="ff63e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algn="ctr">
              <a:spcBef>
                <a:spcPts val="1312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Times New Roman"/>
              </a:rPr>
              <a:t>Spiegazione (b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066680" y="4800600"/>
            <a:ext cx="2971800" cy="457200"/>
          </a:xfrm>
          <a:prstGeom prst="rect">
            <a:avLst/>
          </a:prstGeom>
          <a:solidFill>
            <a:srgbClr val="ff63e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algn="ctr">
              <a:spcBef>
                <a:spcPts val="1312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Times New Roman"/>
              </a:rPr>
              <a:t>Spiegazione (a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590920" y="4038480"/>
            <a:ext cx="3512880" cy="343080"/>
          </a:xfrm>
          <a:prstGeom prst="rect">
            <a:avLst/>
          </a:prstGeom>
          <a:solidFill>
            <a:srgbClr val="ff63e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algn="ctr">
              <a:spcBef>
                <a:spcPts val="1312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Times New Roman"/>
              </a:rPr>
              <a:t>Problematizzazion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609480" y="2895480"/>
            <a:ext cx="7696440" cy="3048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04920" y="1219320"/>
            <a:ext cx="2438280" cy="855720"/>
          </a:xfrm>
          <a:prstGeom prst="rect">
            <a:avLst/>
          </a:prstGeom>
          <a:solidFill>
            <a:srgbClr val="99ff6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Comic Sans MS"/>
              </a:rPr>
              <a:t>Stato delle cose inizia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6172200" y="1066680"/>
            <a:ext cx="2727360" cy="855720"/>
          </a:xfrm>
          <a:prstGeom prst="rect">
            <a:avLst/>
          </a:prstGeom>
          <a:solidFill>
            <a:srgbClr val="99ff6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Comic Sans MS"/>
              </a:rPr>
              <a:t>Stato delle cose fina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209680" y="3200400"/>
            <a:ext cx="4572000" cy="457200"/>
          </a:xfrm>
          <a:prstGeom prst="rect">
            <a:avLst/>
          </a:prstGeom>
          <a:solidFill>
            <a:srgbClr val="ff63e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omic Sans MS"/>
              </a:rPr>
              <a:t>Ricostruzione del process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4343400" y="3581280"/>
            <a:ext cx="9360" cy="427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685800" y="6172200"/>
            <a:ext cx="7467480" cy="609480"/>
          </a:xfrm>
          <a:prstGeom prst="rect">
            <a:avLst/>
          </a:prstGeom>
          <a:solidFill>
            <a:srgbClr val="70ff4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omic Sans MS"/>
              </a:rPr>
              <a:t>Riflessione sul presente, sulle preconoscenze, sul processo di apprendi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LE RIV. DEL Neolitico: LA  SCENEGGIATURA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3048120" y="533520"/>
            <a:ext cx="29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Times New Roman"/>
              </a:rPr>
              <a:t>Preconoscenze + motiva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4191120" y="5738760"/>
            <a:ext cx="1440" cy="433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1447920" y="2438280"/>
            <a:ext cx="5715000" cy="457200"/>
          </a:xfrm>
          <a:prstGeom prst="rect">
            <a:avLst/>
          </a:prstGeom>
          <a:solidFill>
            <a:srgbClr val="84ff63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omic Sans MS"/>
              </a:rPr>
              <a:t>Comparazione: Mutamenti e permanenz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5"/>
          <p:cNvSpPr/>
          <p:nvPr/>
        </p:nvSpPr>
        <p:spPr>
          <a:xfrm>
            <a:off x="609480" y="22096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6"/>
          <p:cNvSpPr/>
          <p:nvPr/>
        </p:nvSpPr>
        <p:spPr>
          <a:xfrm flipH="1">
            <a:off x="7543800" y="22860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7"/>
          <p:cNvSpPr/>
          <p:nvPr/>
        </p:nvSpPr>
        <p:spPr>
          <a:xfrm>
            <a:off x="3352680" y="990720"/>
            <a:ext cx="2362320" cy="457200"/>
          </a:xfrm>
          <a:prstGeom prst="rect">
            <a:avLst/>
          </a:prstGeom>
          <a:solidFill>
            <a:srgbClr val="70ff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tematizz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8"/>
          <p:cNvSpPr/>
          <p:nvPr/>
        </p:nvSpPr>
        <p:spPr>
          <a:xfrm>
            <a:off x="304920" y="990720"/>
            <a:ext cx="2666880" cy="1084320"/>
          </a:xfrm>
          <a:prstGeom prst="rect">
            <a:avLst/>
          </a:prstGeom>
          <a:solidFill>
            <a:srgbClr val="99ff6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Il  MONDO PALEOLITIC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STUDIO DI CA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9"/>
          <p:cNvSpPr/>
          <p:nvPr/>
        </p:nvSpPr>
        <p:spPr>
          <a:xfrm>
            <a:off x="3276720" y="990720"/>
            <a:ext cx="2666880" cy="457200"/>
          </a:xfrm>
          <a:prstGeom prst="rect">
            <a:avLst/>
          </a:prstGeom>
          <a:solidFill>
            <a:srgbClr val="70ff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LE RIV. NEOLITI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0"/>
          <p:cNvSpPr/>
          <p:nvPr/>
        </p:nvSpPr>
        <p:spPr>
          <a:xfrm>
            <a:off x="6172200" y="990720"/>
            <a:ext cx="2743200" cy="1143000"/>
          </a:xfrm>
          <a:prstGeom prst="rect">
            <a:avLst/>
          </a:prstGeom>
          <a:solidFill>
            <a:srgbClr val="99ff6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IL MONDO NEL IV MILLENNI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STUDIO DI CA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1"/>
          <p:cNvSpPr/>
          <p:nvPr/>
        </p:nvSpPr>
        <p:spPr>
          <a:xfrm>
            <a:off x="1219320" y="2438280"/>
            <a:ext cx="6172200" cy="457200"/>
          </a:xfrm>
          <a:prstGeom prst="rect">
            <a:avLst/>
          </a:prstGeom>
          <a:solidFill>
            <a:srgbClr val="84ff63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omic Sans MS"/>
              </a:rPr>
              <a:t>Comparazione: LA SCELTA DEGLI  INDICATOR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2"/>
          <p:cNvSpPr/>
          <p:nvPr/>
        </p:nvSpPr>
        <p:spPr>
          <a:xfrm>
            <a:off x="2209680" y="3200400"/>
            <a:ext cx="4572000" cy="457200"/>
          </a:xfrm>
          <a:prstGeom prst="rect">
            <a:avLst/>
          </a:prstGeom>
          <a:solidFill>
            <a:srgbClr val="ff63e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LE INNOVAZIONI NEOLITI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3"/>
          <p:cNvSpPr/>
          <p:nvPr/>
        </p:nvSpPr>
        <p:spPr>
          <a:xfrm>
            <a:off x="2362320" y="3886200"/>
            <a:ext cx="4114800" cy="609480"/>
          </a:xfrm>
          <a:prstGeom prst="rect">
            <a:avLst/>
          </a:prstGeom>
          <a:solidFill>
            <a:srgbClr val="ff63e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PERCHE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LA NEOLITIZZAZIONE?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4"/>
          <p:cNvSpPr/>
          <p:nvPr/>
        </p:nvSpPr>
        <p:spPr>
          <a:xfrm>
            <a:off x="990720" y="4648320"/>
            <a:ext cx="2971800" cy="685800"/>
          </a:xfrm>
          <a:prstGeom prst="rect">
            <a:avLst/>
          </a:prstGeom>
          <a:solidFill>
            <a:srgbClr val="ff63e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LA TESI “INGENU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5"/>
          <p:cNvSpPr/>
          <p:nvPr/>
        </p:nvSpPr>
        <p:spPr>
          <a:xfrm>
            <a:off x="5105520" y="4648320"/>
            <a:ext cx="2971800" cy="685800"/>
          </a:xfrm>
          <a:prstGeom prst="rect">
            <a:avLst/>
          </a:prstGeom>
          <a:solidFill>
            <a:srgbClr val="ff63e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LA TESI DI M. LIVER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6"/>
          <p:cNvSpPr/>
          <p:nvPr/>
        </p:nvSpPr>
        <p:spPr>
          <a:xfrm>
            <a:off x="1600200" y="5410080"/>
            <a:ext cx="5715000" cy="457200"/>
          </a:xfrm>
          <a:prstGeom prst="rect">
            <a:avLst/>
          </a:prstGeom>
          <a:solidFill>
            <a:srgbClr val="ff63e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omic Sans MS"/>
              </a:rPr>
              <a:t>Comparazione dei modelli:analogie/differenz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27"/>
          <p:cNvSpPr/>
          <p:nvPr/>
        </p:nvSpPr>
        <p:spPr>
          <a:xfrm>
            <a:off x="4038480" y="4952880"/>
            <a:ext cx="914400" cy="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5105520" y="4648320"/>
            <a:ext cx="2971800" cy="457200"/>
          </a:xfrm>
          <a:prstGeom prst="rect">
            <a:avLst/>
          </a:prstGeom>
          <a:solidFill>
            <a:srgbClr val="ff63e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algn="ctr">
              <a:spcBef>
                <a:spcPts val="1312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Times New Roman"/>
              </a:rPr>
              <a:t>Spiegazione (b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1066680" y="4800600"/>
            <a:ext cx="2971800" cy="457200"/>
          </a:xfrm>
          <a:prstGeom prst="rect">
            <a:avLst/>
          </a:prstGeom>
          <a:solidFill>
            <a:srgbClr val="ff63e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algn="ctr">
              <a:spcBef>
                <a:spcPts val="1312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Times New Roman"/>
              </a:rPr>
              <a:t>Spiegazione (a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590920" y="4038480"/>
            <a:ext cx="3512880" cy="343080"/>
          </a:xfrm>
          <a:prstGeom prst="rect">
            <a:avLst/>
          </a:prstGeom>
          <a:solidFill>
            <a:srgbClr val="ff63e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algn="ctr">
              <a:spcBef>
                <a:spcPts val="1312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Times New Roman"/>
              </a:rPr>
              <a:t>Problematizzazion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609480" y="2971800"/>
            <a:ext cx="7696440" cy="3048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04920" y="1219320"/>
            <a:ext cx="2438280" cy="855720"/>
          </a:xfrm>
          <a:prstGeom prst="rect">
            <a:avLst/>
          </a:prstGeom>
          <a:solidFill>
            <a:srgbClr val="99ff6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Comic Sans MS"/>
              </a:rPr>
              <a:t>Stato delle cose inizia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6172200" y="1066680"/>
            <a:ext cx="2727360" cy="855720"/>
          </a:xfrm>
          <a:prstGeom prst="rect">
            <a:avLst/>
          </a:prstGeom>
          <a:solidFill>
            <a:srgbClr val="99ff6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Comic Sans MS"/>
              </a:rPr>
              <a:t>Stato delle cose fina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2209680" y="3200400"/>
            <a:ext cx="4572000" cy="457200"/>
          </a:xfrm>
          <a:prstGeom prst="rect">
            <a:avLst/>
          </a:prstGeom>
          <a:solidFill>
            <a:srgbClr val="ff63e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omic Sans MS"/>
              </a:rPr>
              <a:t>Ricostruzione del process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9"/>
          <p:cNvSpPr/>
          <p:nvPr/>
        </p:nvSpPr>
        <p:spPr>
          <a:xfrm>
            <a:off x="4343400" y="3581280"/>
            <a:ext cx="9360" cy="427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685800" y="6172200"/>
            <a:ext cx="7467480" cy="609480"/>
          </a:xfrm>
          <a:prstGeom prst="rect">
            <a:avLst/>
          </a:prstGeom>
          <a:solidFill>
            <a:srgbClr val="70ff4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omic Sans MS"/>
              </a:rPr>
              <a:t>Riflessione sul presente, sulle preconoscenze, sul processo di apprendi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LE RIV. DEL Neolitico: LA  SCENEGGIATURA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3048120" y="533520"/>
            <a:ext cx="29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Times New Roman"/>
              </a:rPr>
              <a:t>Preconoscenze + motiva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3"/>
          <p:cNvSpPr/>
          <p:nvPr/>
        </p:nvSpPr>
        <p:spPr>
          <a:xfrm>
            <a:off x="4191120" y="5738760"/>
            <a:ext cx="1440" cy="433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1447920" y="2438280"/>
            <a:ext cx="5715000" cy="457200"/>
          </a:xfrm>
          <a:prstGeom prst="rect">
            <a:avLst/>
          </a:prstGeom>
          <a:solidFill>
            <a:srgbClr val="84ff63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omic Sans MS"/>
              </a:rPr>
              <a:t>Comparazione: Mutamenti e permanenz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5"/>
          <p:cNvSpPr/>
          <p:nvPr/>
        </p:nvSpPr>
        <p:spPr>
          <a:xfrm>
            <a:off x="609480" y="22096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6"/>
          <p:cNvSpPr/>
          <p:nvPr/>
        </p:nvSpPr>
        <p:spPr>
          <a:xfrm flipH="1">
            <a:off x="7543800" y="22860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7"/>
          <p:cNvSpPr/>
          <p:nvPr/>
        </p:nvSpPr>
        <p:spPr>
          <a:xfrm>
            <a:off x="3352680" y="990720"/>
            <a:ext cx="2362320" cy="457200"/>
          </a:xfrm>
          <a:prstGeom prst="rect">
            <a:avLst/>
          </a:prstGeom>
          <a:solidFill>
            <a:srgbClr val="70ff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tematizz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8"/>
          <p:cNvSpPr/>
          <p:nvPr/>
        </p:nvSpPr>
        <p:spPr>
          <a:xfrm>
            <a:off x="304920" y="990720"/>
            <a:ext cx="2666880" cy="1084320"/>
          </a:xfrm>
          <a:prstGeom prst="rect">
            <a:avLst/>
          </a:prstGeom>
          <a:solidFill>
            <a:srgbClr val="99ff6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Il  MONDO PALEOLITIC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STUDIO DI CA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9"/>
          <p:cNvSpPr/>
          <p:nvPr/>
        </p:nvSpPr>
        <p:spPr>
          <a:xfrm>
            <a:off x="3276720" y="990720"/>
            <a:ext cx="2666880" cy="457200"/>
          </a:xfrm>
          <a:prstGeom prst="rect">
            <a:avLst/>
          </a:prstGeom>
          <a:solidFill>
            <a:srgbClr val="70ff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LE RIV. NEOLITI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0"/>
          <p:cNvSpPr/>
          <p:nvPr/>
        </p:nvSpPr>
        <p:spPr>
          <a:xfrm>
            <a:off x="6172200" y="990720"/>
            <a:ext cx="2743200" cy="1143000"/>
          </a:xfrm>
          <a:prstGeom prst="rect">
            <a:avLst/>
          </a:prstGeom>
          <a:solidFill>
            <a:srgbClr val="99ff6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IL MONDO NEL IV MILLENNI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STUDIO DI CA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21"/>
          <p:cNvSpPr/>
          <p:nvPr/>
        </p:nvSpPr>
        <p:spPr>
          <a:xfrm>
            <a:off x="1219320" y="2438280"/>
            <a:ext cx="6172200" cy="457200"/>
          </a:xfrm>
          <a:prstGeom prst="rect">
            <a:avLst/>
          </a:prstGeom>
          <a:solidFill>
            <a:srgbClr val="84ff63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omic Sans MS"/>
              </a:rPr>
              <a:t>Comparazione: LA SCELTA DEGLI  INDICATOR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2"/>
          <p:cNvSpPr/>
          <p:nvPr/>
        </p:nvSpPr>
        <p:spPr>
          <a:xfrm>
            <a:off x="2209680" y="3200400"/>
            <a:ext cx="4572000" cy="457200"/>
          </a:xfrm>
          <a:prstGeom prst="rect">
            <a:avLst/>
          </a:prstGeom>
          <a:solidFill>
            <a:srgbClr val="ff63e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LE INNOVAZIONI NEOLITI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23"/>
          <p:cNvSpPr/>
          <p:nvPr/>
        </p:nvSpPr>
        <p:spPr>
          <a:xfrm>
            <a:off x="2362320" y="3886200"/>
            <a:ext cx="4114800" cy="609480"/>
          </a:xfrm>
          <a:prstGeom prst="rect">
            <a:avLst/>
          </a:prstGeom>
          <a:solidFill>
            <a:srgbClr val="ff63e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PERCHE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LA NEOLITIZZAZIONE?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24"/>
          <p:cNvSpPr/>
          <p:nvPr/>
        </p:nvSpPr>
        <p:spPr>
          <a:xfrm>
            <a:off x="990720" y="4648320"/>
            <a:ext cx="2971800" cy="685800"/>
          </a:xfrm>
          <a:prstGeom prst="rect">
            <a:avLst/>
          </a:prstGeom>
          <a:solidFill>
            <a:srgbClr val="ff63e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LA TESI DI V.G. CHIL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5"/>
          <p:cNvSpPr/>
          <p:nvPr/>
        </p:nvSpPr>
        <p:spPr>
          <a:xfrm>
            <a:off x="5105520" y="4648320"/>
            <a:ext cx="2971800" cy="685800"/>
          </a:xfrm>
          <a:prstGeom prst="rect">
            <a:avLst/>
          </a:prstGeom>
          <a:solidFill>
            <a:srgbClr val="ff63e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LA TESI DI LA TESI DI M. LIVER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26"/>
          <p:cNvSpPr/>
          <p:nvPr/>
        </p:nvSpPr>
        <p:spPr>
          <a:xfrm>
            <a:off x="1600200" y="5410080"/>
            <a:ext cx="5715000" cy="457200"/>
          </a:xfrm>
          <a:prstGeom prst="rect">
            <a:avLst/>
          </a:prstGeom>
          <a:solidFill>
            <a:srgbClr val="ff63e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omic Sans MS"/>
              </a:rPr>
              <a:t>Comparazione dei modelli:analogie/differenz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27"/>
          <p:cNvSpPr/>
          <p:nvPr/>
        </p:nvSpPr>
        <p:spPr>
          <a:xfrm>
            <a:off x="4038480" y="4952880"/>
            <a:ext cx="914400" cy="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76320" y="1195560"/>
          <a:ext cx="8991360" cy="4157640"/>
        </p:xfrm>
        <a:graphic>
          <a:graphicData uri="http://schemas.openxmlformats.org/drawingml/2006/table">
            <a:tbl>
              <a:tblPr/>
              <a:tblGrid>
                <a:gridCol w="914400"/>
                <a:gridCol w="2082600"/>
                <a:gridCol w="1763640"/>
                <a:gridCol w="1752840"/>
                <a:gridCol w="1806480"/>
                <a:gridCol w="671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cor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zza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tac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gi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orse digit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m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cc"/>
                    </a:solidFill>
                  </a:tcPr>
                </a:tc>
              </a:tr>
              <a:tr h="40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 presente/le preconoscen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. </a:t>
                      </a: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onoscenze sull'agricoltura/allevamento e la vita urbana attuale: gli elementi permanenti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.  Cosa sai della nascita dell’agricoltura/allevamento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ve descrizione + localizzazione sul planisfero e linea del tempo + parole chiave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. Qual è la sua importanza nella storia del mondo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Interrogativi, curiosità, questioni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posta scritta individuale /gruppi su traccia di domande (a+b+c+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plorazione guidata siti we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ssa in comune LIM mappa concettuale + domande (punto 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1"/>
                        </a:rPr>
                        <a:t>WEBQU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"/>
                        </a:rPr>
                        <a:t>Explorat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3"/>
                        </a:rPr>
                        <a:t>WIK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4"/>
                        </a:rPr>
                        <a:t>Voce </a:t>
                      </a: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5"/>
                        </a:rPr>
                        <a:t>agricoltura</a:t>
                      </a: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6"/>
                        </a:rPr>
                        <a:t> Wikipe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7"/>
                        </a:rPr>
                        <a:t>Enc. 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8"/>
                        </a:rPr>
                        <a:t>Trecca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9"/>
                        </a:rPr>
                        <a:t>Data base FA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hlinkClick r:id="rId10"/>
                        </a:rPr>
                        <a:t>Worldmapp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30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33cc"/>
                    </a:solidFill>
                  </a:tcPr>
                </a:tc>
              </a:tr>
            </a:tbl>
          </a:graphicData>
        </a:graphic>
      </p:graphicFrame>
      <p:sp>
        <p:nvSpPr>
          <p:cNvPr id="167" name="Text Box 7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 RIV. DEL Neolitico: LA  SCENEGGIATURA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104" descr="Senza titolo2"/>
          <p:cNvPicPr/>
          <p:nvPr/>
        </p:nvPicPr>
        <p:blipFill>
          <a:blip r:embed="rId11"/>
          <a:stretch/>
        </p:blipFill>
        <p:spPr>
          <a:xfrm>
            <a:off x="3352680" y="2895480"/>
            <a:ext cx="976320" cy="990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5" descr="Senza titolo2"/>
          <p:cNvPicPr/>
          <p:nvPr/>
        </p:nvPicPr>
        <p:blipFill>
          <a:blip r:embed="rId12"/>
          <a:stretch/>
        </p:blipFill>
        <p:spPr>
          <a:xfrm>
            <a:off x="533520" y="5943600"/>
            <a:ext cx="45072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Object 111"/>
          <p:cNvGraphicFramePr/>
          <p:nvPr/>
        </p:nvGraphicFramePr>
        <p:xfrm>
          <a:off x="1143000" y="6019920"/>
          <a:ext cx="3657600" cy="30456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171" name="Object 1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43000" y="6019920"/>
                    <a:ext cx="365760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2" name="Picture 112" descr="Senza titolo3"/>
          <p:cNvPicPr/>
          <p:nvPr/>
        </p:nvPicPr>
        <p:blipFill>
          <a:blip r:embed="rId15"/>
          <a:stretch/>
        </p:blipFill>
        <p:spPr>
          <a:xfrm>
            <a:off x="2362320" y="5867280"/>
            <a:ext cx="609480" cy="57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Object 113"/>
          <p:cNvGraphicFramePr/>
          <p:nvPr/>
        </p:nvGraphicFramePr>
        <p:xfrm>
          <a:off x="3048120" y="6019920"/>
          <a:ext cx="8088120" cy="212760"/>
        </p:xfrm>
        <a:graphic>
          <a:graphicData uri="http://schemas.openxmlformats.org/presentationml/2006/ole">
            <p:oleObj progId="Word.Document.12" r:id="rId16" spid="">
              <p:embed/>
              <p:pic>
                <p:nvPicPr>
                  <p:cNvPr id="174" name="Object 113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048120" y="6019920"/>
                    <a:ext cx="8088120" cy="2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5" name="Picture 114" descr="Senza titolo4"/>
          <p:cNvPicPr/>
          <p:nvPr/>
        </p:nvPicPr>
        <p:blipFill>
          <a:blip r:embed="rId18"/>
          <a:stretch/>
        </p:blipFill>
        <p:spPr>
          <a:xfrm>
            <a:off x="5334120" y="5867280"/>
            <a:ext cx="666720" cy="57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Object 115"/>
          <p:cNvGraphicFramePr/>
          <p:nvPr/>
        </p:nvGraphicFramePr>
        <p:xfrm>
          <a:off x="6084720" y="6095880"/>
          <a:ext cx="6118560" cy="160560"/>
        </p:xfrm>
        <a:graphic>
          <a:graphicData uri="http://schemas.openxmlformats.org/presentationml/2006/ole">
            <p:oleObj progId="Word.Document.12" r:id="rId19" spid="">
              <p:embed/>
              <p:pic>
                <p:nvPicPr>
                  <p:cNvPr id="177" name="Object 11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84720" y="6095880"/>
                    <a:ext cx="6118560" cy="1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8" name="Picture 116" descr="Senza titolo12"/>
          <p:cNvPicPr/>
          <p:nvPr/>
        </p:nvPicPr>
        <p:blipFill>
          <a:blip r:embed="rId21"/>
          <a:stretch/>
        </p:blipFill>
        <p:spPr>
          <a:xfrm>
            <a:off x="7010280" y="5943600"/>
            <a:ext cx="91440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Object 117"/>
          <p:cNvGraphicFramePr/>
          <p:nvPr/>
        </p:nvGraphicFramePr>
        <p:xfrm>
          <a:off x="7924680" y="6095880"/>
          <a:ext cx="6118200" cy="160560"/>
        </p:xfrm>
        <a:graphic>
          <a:graphicData uri="http://schemas.openxmlformats.org/presentationml/2006/ole">
            <p:oleObj progId="Word.Document.12" r:id="rId22" spid="">
              <p:embed/>
              <p:pic>
                <p:nvPicPr>
                  <p:cNvPr id="180" name="Object 117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7924680" y="6095880"/>
                    <a:ext cx="6118200" cy="1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1" name="Picture 118" descr="Senza titolo2"/>
          <p:cNvPicPr/>
          <p:nvPr/>
        </p:nvPicPr>
        <p:blipFill>
          <a:blip r:embed="rId24"/>
          <a:stretch/>
        </p:blipFill>
        <p:spPr>
          <a:xfrm>
            <a:off x="5105520" y="3809880"/>
            <a:ext cx="976320" cy="990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37" descr="Senza titolo3"/>
          <p:cNvPicPr/>
          <p:nvPr/>
        </p:nvPicPr>
        <p:blipFill>
          <a:blip r:embed="rId25"/>
          <a:stretch/>
        </p:blipFill>
        <p:spPr>
          <a:xfrm>
            <a:off x="3505320" y="3962520"/>
            <a:ext cx="609480" cy="579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38" descr="Senza titolo3"/>
          <p:cNvPicPr/>
          <p:nvPr/>
        </p:nvPicPr>
        <p:blipFill>
          <a:blip r:embed="rId26"/>
          <a:stretch/>
        </p:blipFill>
        <p:spPr>
          <a:xfrm>
            <a:off x="5334120" y="4800600"/>
            <a:ext cx="60948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533520" y="838080"/>
          <a:ext cx="8153280" cy="5432400"/>
        </p:xfrm>
        <a:graphic>
          <a:graphicData uri="http://schemas.openxmlformats.org/drawingml/2006/table">
            <a:tbl>
              <a:tblPr/>
              <a:tblGrid>
                <a:gridCol w="1358640"/>
                <a:gridCol w="1359000"/>
                <a:gridCol w="1701720"/>
                <a:gridCol w="1219320"/>
                <a:gridCol w="1523880"/>
                <a:gridCol w="990720"/>
              </a:tblGrid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cor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zz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tac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git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orse digit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m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cc"/>
                    </a:solidFill>
                  </a:tcPr>
                </a:tc>
              </a:tr>
              <a:tr h="478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 Passato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 mondo del paleolitico superiore 20.000 anni fa circa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ondo 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i indicatori di civilt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alisi del   manu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ilazione tabell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ndicatori + dat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aborazione mappa concettu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aborazione copione/diario 1: una giornata tipo  a  Lascaux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mila anni fa cir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o ambiente timerime  ed exploratr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cerca per trovare immagini di riferimento in r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eriali sul paleolit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ruzione linea del tempo + localizzazione su planisfer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"/>
                        </a:rPr>
                        <a:t>Timer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"/>
                        </a:rPr>
                        <a:t> </a:t>
                      </a:r>
                      <a:r>
                        <a:rPr b="0" lang="it-IT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3"/>
                        </a:rPr>
                        <a:t>Explorat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4"/>
                        </a:rPr>
                        <a:t>Webquest</a:t>
                      </a:r>
                      <a:r>
                        <a:rPr b="0" lang="it-IT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5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6"/>
                        </a:rPr>
                        <a:t>La giornata nel paleolitic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7"/>
                        </a:rPr>
                        <a:t>(video1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8"/>
                        </a:rPr>
                        <a:t>(video 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9"/>
                        </a:rPr>
                        <a:t>Le grotte di Lascaux</a:t>
                      </a: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0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1"/>
                        </a:rPr>
                        <a:t>Lascaux 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30 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+ completamento a ca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33cc"/>
                    </a:solidFill>
                  </a:tcPr>
                </a:tc>
              </a:tr>
            </a:tbl>
          </a:graphicData>
        </a:graphic>
      </p:graphicFrame>
      <p:sp>
        <p:nvSpPr>
          <p:cNvPr id="185" name="Text Box 26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 RIV. DEL Neolitico: LA  SCENEGGIATURA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62" descr="Senza titolo2"/>
          <p:cNvPicPr/>
          <p:nvPr/>
        </p:nvPicPr>
        <p:blipFill>
          <a:blip r:embed="rId12"/>
          <a:stretch/>
        </p:blipFill>
        <p:spPr>
          <a:xfrm>
            <a:off x="5410080" y="2133720"/>
            <a:ext cx="528840" cy="533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4" descr="Senza titolo2"/>
          <p:cNvPicPr/>
          <p:nvPr/>
        </p:nvPicPr>
        <p:blipFill>
          <a:blip r:embed="rId13"/>
          <a:stretch/>
        </p:blipFill>
        <p:spPr>
          <a:xfrm>
            <a:off x="3886200" y="1676520"/>
            <a:ext cx="528480" cy="533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5" descr="Senza titolo3"/>
          <p:cNvPicPr/>
          <p:nvPr/>
        </p:nvPicPr>
        <p:blipFill>
          <a:blip r:embed="rId14"/>
          <a:stretch/>
        </p:blipFill>
        <p:spPr>
          <a:xfrm>
            <a:off x="3733920" y="5410080"/>
            <a:ext cx="914400" cy="870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6" descr="Senza titolo3"/>
          <p:cNvPicPr/>
          <p:nvPr/>
        </p:nvPicPr>
        <p:blipFill>
          <a:blip r:embed="rId15"/>
          <a:stretch/>
        </p:blipFill>
        <p:spPr>
          <a:xfrm>
            <a:off x="5181480" y="5410080"/>
            <a:ext cx="838440" cy="7970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7" descr="Senza titolo12"/>
          <p:cNvPicPr/>
          <p:nvPr/>
        </p:nvPicPr>
        <p:blipFill>
          <a:blip r:embed="rId16"/>
          <a:stretch/>
        </p:blipFill>
        <p:spPr>
          <a:xfrm>
            <a:off x="5486400" y="1066680"/>
            <a:ext cx="914400" cy="457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6" descr="Senza titolo4"/>
          <p:cNvPicPr/>
          <p:nvPr/>
        </p:nvPicPr>
        <p:blipFill>
          <a:blip r:embed="rId17"/>
          <a:stretch/>
        </p:blipFill>
        <p:spPr>
          <a:xfrm>
            <a:off x="7772400" y="4419720"/>
            <a:ext cx="97164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7T14:26:35Z</dcterms:created>
  <dc:creator>Pippo Pluto</dc:creator>
  <dc:description/>
  <dc:language>en-US</dc:language>
  <cp:lastModifiedBy>Administrator</cp:lastModifiedBy>
  <cp:lastPrinted>2005-06-05T12:55:36Z</cp:lastPrinted>
  <dcterms:modified xsi:type="dcterms:W3CDTF">2012-09-03T07:14:20Z</dcterms:modified>
  <cp:revision>46</cp:revision>
  <dc:subject/>
  <dc:title>Presentazione di PowerPoint</dc:title>
</cp:coreProperties>
</file>