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C1B-04B9-4D6C-B1DA-E0F592D8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AAD-B701-466A-99C8-132E40A3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8A7-F47E-4B78-A122-02E73825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F18-E724-4D11-8B91-32B6ED53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E2E4-4447-4B45-9512-379D569F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F700-F5C6-4F27-806C-C5DC45C9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8300-1960-4687-87E0-A1C25A43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E33A-DC44-4145-975F-68550FC0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FB6D-48B8-415D-9860-A544D354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4631-4C9F-4924-8E49-62574A0E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6A25-1EF5-4B81-95CE-13009711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822-1422-49E5-BC45-122CB0F5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B492-2AAB-478E-BB70-A541156A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87C4-C792-4A89-86D7-85D3C51C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5FF2-1B1C-47A2-900A-E7A36EA3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1CFF-54C3-41BC-AC0D-2BE92E66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7060-A5DC-4128-8662-5A5E6383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6DCF-0B49-4B3D-9E6D-4D4A12B9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7AF5-AF29-4A28-82DC-084527BF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FFE19-A211-4663-A107-66E5CB88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CB778-D6DC-486D-86E7-BC1F8640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2C10-88FC-4931-B157-99B46AAC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042-3F9C-43AA-9EA5-8B26BC1B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40B0D-8EC5-42EC-8633-5B7FA971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0705-0F7E-4B7B-AF6A-C629B44E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C9F3-2BD8-40DF-A79C-7B665521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2410-4B1E-48E8-B83C-8D60E504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490F8-5D0A-4893-9802-C06E921C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D37B9-61A0-4366-B0BB-1ABDB8D0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5DC1-DE56-4C2F-A3F0-937F95F9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71EB5-65B8-4FCD-92DC-3A2A56C9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58A10-4414-4D83-81EE-FBFA7F7F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DD519-49AF-4187-829E-DF036C23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7A5-8134-488F-BA22-5B896461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6FC0D-6B82-4259-969D-B68BAFE5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7A0B6-EE45-4682-B0F5-B82F4B5B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29EF-5494-4F9E-8740-9AC6037C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B7E74-9415-40E4-A21B-1FEE873B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4C9F-C786-4913-B58E-5E5D9E1C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07429-EC53-43FA-83D3-5FC9FA04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EAE4-7A0C-4820-AC38-4BA07CD5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07BFE-3AAF-46BA-ACA2-FD15D760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07DD0-5ECB-42F6-8C22-3D267841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158-E03E-48B6-89F6-6A51A46E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695-2C8B-43C5-A014-D3423EE8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762-BBCF-4934-BE44-A091265D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DE0-7EA6-44F0-9704-2137AA51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F0E2-C670-477F-9B97-0AF70236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0A4E-53D1-47EF-883F-ADE27B6DF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BCF1-0772-4B8C-A2CC-A502DEB65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CABB-C96F-451D-B059-FEABE903C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99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3326-42FB-4BEB-8B24-6273C052C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iemonte.istruzione.it/allegati/2007/indicazioni_per_il_curricolo.pdf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15640" y="4292640"/>
            <a:ext cx="7202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segnare Geostoria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 le risorse digi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 cura di M. T. Rabitti - F. Dematt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ivo\AppData\Roaming\PixelMetrics\CaptureWiz\LastCaptures\2012-08-18_10-43-01-353.png"/>
          <p:cNvPicPr/>
          <p:nvPr/>
        </p:nvPicPr>
        <p:blipFill>
          <a:blip r:embed="rId2"/>
          <a:stretch/>
        </p:blipFill>
        <p:spPr>
          <a:xfrm>
            <a:off x="1116000" y="1484280"/>
            <a:ext cx="7488360" cy="2278080"/>
          </a:xfrm>
          <a:prstGeom prst="rect">
            <a:avLst/>
          </a:prstGeom>
          <a:ln w="0">
            <a:noFill/>
          </a:ln>
        </p:spPr>
      </p:pic>
      <p:sp>
        <p:nvSpPr>
          <p:cNvPr id="169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30.08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55B3-0245-47AE-A8FB-EAE77814E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L PROCESSO DEL POPOLAMENTO DEL MO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599840"/>
            <a:ext cx="449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ma/problem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come l’Homo Sapiens ha popolato il  mondo a partire da circa 150.000 anni f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rganizz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una messa in relazione di informazioni spazio tempor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pre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rgomentando e rielaborando dei dati di genetica , archeologia, ambientale , ecc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Segnaposto contenuto 7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4392360" cy="3600360"/>
          </a:xfrm>
          <a:prstGeom prst="rect">
            <a:avLst/>
          </a:prstGeom>
          <a:ln w="9360">
            <a:solidFill>
              <a:srgbClr val="084153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6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1375-2795-45FF-BC67-3358A0729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140360" y="5853240"/>
            <a:ext cx="464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Un prodotto digitale fruibi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nel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rganizzazione delle conosc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) Mappa - planisfero interattivo non eurocen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b) Evidenziati ambienti climatici, la morfologia del territorio (catene montuose, laghi, fiumi, foreste  praterie steppe zone ghiacci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) Grafico lineare interattivo (Timeline) da 16.000 a 10.000 a. C. ; ogni spazio 10.000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) Finestre con approfondimenti e rimandi secondo un modello ipertes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) Consente operazioni di stampa -  copia -  inc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 )  Presenta Immagini – audio – vide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alore didattico dell’animazione nel web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data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.08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egnaposto numero diapositiva 6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12A6-B7DE-4CA5-A15A-F6ADBD37B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3280" y="1341000"/>
            <a:ext cx="4037040" cy="4824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pertes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enta livelli differenti di difficoltà per varie fasce di età e potenzialità individ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ganizza con modalità cognitivamente semplici  processi storici comples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ifica il rapporto insegnante allie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1341360"/>
            <a:ext cx="4037040" cy="4741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.d.t.complesso di lunghissima dur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ganizza informazioni scientifiche provenienti da vari ambiti disciplinar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mostra l’interazione storia geografia; elementi “ambientali” forniscono spiegazioni a processi stor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ganizza le conoscenze secondo un mo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ensare - apprendere – comunicare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in modo dive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Diagramma 1" descr=""/>
          <p:cNvPicPr/>
          <p:nvPr/>
        </p:nvPicPr>
        <p:blipFill>
          <a:blip r:embed="rId2"/>
          <a:stretch/>
        </p:blipFill>
        <p:spPr>
          <a:xfrm>
            <a:off x="2408400" y="1682640"/>
            <a:ext cx="4321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evoluzione morfologica della laguna di Venezia dal XVII secolo a o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data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.08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egnaposto piè di pagina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egnaposto numero diapositiva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DDEB-79F2-4947-82B2-D6A34D8FD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Segnaposto contenuto 2" descr=""/>
          <p:cNvPicPr/>
          <p:nvPr/>
        </p:nvPicPr>
        <p:blipFill>
          <a:blip r:embed="rId2"/>
          <a:stretch/>
        </p:blipFill>
        <p:spPr>
          <a:xfrm>
            <a:off x="4621320" y="2036880"/>
            <a:ext cx="4363920" cy="3425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5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n P.d.T. 1695-2003 Storia/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8 divers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ppresentazioni iconografiche della laguna di Venezia i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mbiente: atlante, mappe tematiche, accesso ai dati, libro on line, help, download, inserire osservazion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evoluzione morfologica della laguna di Venezia dal XVII secolo a o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appa della città di Venezia o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ema/problema. Significatività rispetto al pre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eni del patrimonio: le 8 mappe stor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atu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ss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at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unica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ducazione alla cittadinanza attiva: geostoria+dig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egnaposto data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A467-A3A2-466C-B387-24618DB27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asellaDiTesto 1"/>
          <p:cNvSpPr/>
          <p:nvPr/>
        </p:nvSpPr>
        <p:spPr>
          <a:xfrm>
            <a:off x="971640" y="1628640"/>
            <a:ext cx="7561080" cy="368280"/>
          </a:xfrm>
          <a:prstGeom prst="rect">
            <a:avLst/>
          </a:prstGeom>
          <a:noFill/>
          <a:ln w="9360">
            <a:solidFill>
              <a:srgbClr val="084153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quenza: PRESENTE – PASSATO - PRES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EOSTORIA – DIGITALE  - COMPET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5760" y="2205000"/>
            <a:ext cx="836424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igitale aiuta la costruzione di competenze geo-storich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onoscere, interpretare  criticamente  e usare gli strumenti della geografia (carte, metacarte, grafici, cartogrammi, rappresentazione di dati) e della storia (carte geostoriche, linee del tempo, rappresentazione di dati), sapendo operare con le strutture e le concettualizzazioni  del pensiero spazio-tempor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onoscere le principali procedure del lavoro geografico e storiografico e i problemi della costruzione della conoscenza geostorica  per individuarne le modalità di impiego  nei testi geografici e storici (manuali, atlanti, saggi e  semplici testi esperti, siti web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2480-2956-4622-930B-B26BA65AB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ttangolo 1"/>
          <p:cNvSpPr/>
          <p:nvPr/>
        </p:nvSpPr>
        <p:spPr>
          <a:xfrm>
            <a:off x="468360" y="620640"/>
            <a:ext cx="8064360" cy="1152720"/>
          </a:xfrm>
          <a:prstGeom prst="rect">
            <a:avLst/>
          </a:prstGeom>
          <a:solidFill>
            <a:srgbClr val="337306"/>
          </a:solidFill>
          <a:ln w="25560">
            <a:solidFill>
              <a:srgbClr val="235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ffcc"/>
                </a:solidFill>
                <a:latin typeface="Arial"/>
              </a:rPr>
              <a:t>GEOSTORIA – DIGITALE  - COMPET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EOSTORIA – DIGITALE  - COMPET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5760" y="2205000"/>
            <a:ext cx="836424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igitale aiuta la costruzione di competenze geo-storich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7676-B17C-4877-B3BD-051019CA2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ttangolo 1"/>
          <p:cNvSpPr/>
          <p:nvPr/>
        </p:nvSpPr>
        <p:spPr>
          <a:xfrm>
            <a:off x="468360" y="620640"/>
            <a:ext cx="8064360" cy="1152720"/>
          </a:xfrm>
          <a:prstGeom prst="rect">
            <a:avLst/>
          </a:prstGeom>
          <a:solidFill>
            <a:srgbClr val="337306"/>
          </a:solidFill>
          <a:ln w="25560">
            <a:solidFill>
              <a:srgbClr val="235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ffcc"/>
                </a:solidFill>
                <a:latin typeface="Arial"/>
              </a:rPr>
              <a:t>GEOSTORIA – DIGITALE  - COMPET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ttangolo 2"/>
          <p:cNvSpPr/>
          <p:nvPr/>
        </p:nvSpPr>
        <p:spPr>
          <a:xfrm>
            <a:off x="468360" y="314172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adroneggiare  le fondamentali  procedure di lavoro storiografico e geografico: tematizzare, localizzare e considerare l'estensione, la direzione e la distribuzione territoriale di un fenomeno, scegliere e classificare fonti, produrre ed elaborare  dati e informazioni, comunicare i risultati di ricer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«Comprendere, riformulare  e produrre semplici testi di tipo storiografico e geografico con particolare riferimento al carattere problematico e argomentativo della ricostruzione del passato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EOSTORIA – DIGITALE  - COMPET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5760" y="1989000"/>
            <a:ext cx="83642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igitale aiuta la costruzione di competenze geo-storich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429C-8245-4603-883C-E5770B581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ttangolo 1"/>
          <p:cNvSpPr/>
          <p:nvPr/>
        </p:nvSpPr>
        <p:spPr>
          <a:xfrm>
            <a:off x="468360" y="620640"/>
            <a:ext cx="8064360" cy="1152720"/>
          </a:xfrm>
          <a:prstGeom prst="rect">
            <a:avLst/>
          </a:prstGeom>
          <a:solidFill>
            <a:srgbClr val="337306"/>
          </a:solidFill>
          <a:ln w="25560">
            <a:solidFill>
              <a:srgbClr val="235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ffcc"/>
                </a:solidFill>
                <a:latin typeface="Arial"/>
              </a:rPr>
              <a:t>GEOSTORIA – DIGITALE  - COMPET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tangolo 2"/>
          <p:cNvSpPr/>
          <p:nvPr/>
        </p:nvSpPr>
        <p:spPr>
          <a:xfrm>
            <a:off x="468360" y="256536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Usare in modo autonomo testi geografici e storici per la conoscenza di fatti geografici e storici, padroneggiando consapevolmente strategie di studio e di rielaborazione delle informazioni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«Conoscere caratteristiche e  strutture ambientali e geografiche del mondo contemporaneo e delle diverse aree oggetto di studio, comparandole con quelle del mondo arcaico e antico, individuando continuità a cambiamenti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«Scoprire e dare significato alla dimensione storica del mondo attuale a diverse  scale di osservazione  (spaziale, temporale, sociale) e comprendere la trama delle relazioni – geografiche, economiche, sociali, politiche, culturali– nella quale si è inserit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EOSTORIA – DIGITALE  - COMPET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5760" y="1989000"/>
            <a:ext cx="83642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igitale aiuta la costruzione di competenze geo-storich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8973-9D80-4D1E-805F-125A7B635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ttangolo 1"/>
          <p:cNvSpPr/>
          <p:nvPr/>
        </p:nvSpPr>
        <p:spPr>
          <a:xfrm>
            <a:off x="468360" y="620640"/>
            <a:ext cx="8064360" cy="1152720"/>
          </a:xfrm>
          <a:prstGeom prst="rect">
            <a:avLst/>
          </a:prstGeom>
          <a:solidFill>
            <a:srgbClr val="337306"/>
          </a:solidFill>
          <a:ln w="25560">
            <a:solidFill>
              <a:srgbClr val="235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ffcc"/>
                </a:solidFill>
                <a:latin typeface="Arial"/>
              </a:rPr>
              <a:t>GEOSTORIA – DIGITALE  - COMPET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ttangolo 2"/>
          <p:cNvSpPr/>
          <p:nvPr/>
        </p:nvSpPr>
        <p:spPr>
          <a:xfrm>
            <a:off x="468360" y="2565360"/>
            <a:ext cx="813600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conoscere e comprendere le strutture  e i processi di trasformazione del  mondo arcaico, antico e medievale, le  specificità e le rotture in relazione a temi  e nodi problematici (problematizzazioni) rilevanti rispetto al mondo attuale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«Conoscere le principali caratteristiche e le reciproche interrelazioni dei fenomeni geografici, storici, sociali  economici e culturali  studiati, sapendoli comparare in prospettiva diacronica e sincronica»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«Analizzare storicamente problemi ambientali e geografici e riconoscere l’importanza dei contesti spaziali nella ricostruzione delle civiltà del passato oggetto di stud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Conoscere i beni culturali e comprenderli come elementi   del   patrimonio storico-culturale, riconoscendone i diversi usi nel tempo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12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ORIA E GE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agioni per la ricerca della complementarità storia – geografia sono fondate su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una elaborazione epistemologic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he ha attraversato il secolo XX e su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atiche di lavoro di geografi e di storic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he hanno dimostrato l’ efficacia conoscitiva di ess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. Mattozzi Arcev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.08.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C755-AAB0-49CC-B8CB-47E70E98C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EOSTORIA – DIGITALE  - COMPET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5760" y="1989000"/>
            <a:ext cx="83642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5B12-2357-4C02-823A-D7FF3C998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ttangolo 1"/>
          <p:cNvSpPr/>
          <p:nvPr/>
        </p:nvSpPr>
        <p:spPr>
          <a:xfrm>
            <a:off x="468360" y="620640"/>
            <a:ext cx="8064360" cy="1152720"/>
          </a:xfrm>
          <a:prstGeom prst="rect">
            <a:avLst/>
          </a:prstGeom>
          <a:solidFill>
            <a:srgbClr val="337306"/>
          </a:solidFill>
          <a:ln w="25560">
            <a:solidFill>
              <a:srgbClr val="235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ffcc"/>
                </a:solidFill>
                <a:latin typeface="Arial"/>
              </a:rPr>
              <a:t>GEOSTORIA – DIGITALE  - COMPET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ttangolo 2"/>
          <p:cNvSpPr/>
          <p:nvPr/>
        </p:nvSpPr>
        <p:spPr>
          <a:xfrm>
            <a:off x="468360" y="2565360"/>
            <a:ext cx="813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… la ricerca geo- storica aiuta a costruire la competenza digita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Saper utilizzare con dimestichezza e spirito critico le tecnologie della società dell’informazione per il lavoro, il tempo libero e la comunicazione. Essa implica abilità di base nelle TIC: l’uso del computer per reperire, valutare, conservare, produrre, presentare e scambiare informazioni, nonché per comunicare e partecipare a reti collaborative tramite internet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igitale non elimina l’insegnante ma modifica la mediazione didatt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0038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segnante deve guidare gli allievi ad  impadronirsi degli strumenti mentali necessari per ricercare, interpretare, rielabo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segnante è filtro tra la rete e gli allievi per far apprendere come selezionare criticamente, come difendersi dalle informazioni sovrabbondanti o deviate o err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nsegnante deve sollecitare la possibilità data dal digitale di mettere in relazione le conoscenze, per produrre contenuti originali e articolati; deve sollecitare la produzione collettiva  tra pari, la voglia di conoscere di apprendere, la passione per la ricerca  per costruire un cittadino consapevole che sa gestire democraticamente i saperi del digit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0" y="5445000"/>
            <a:ext cx="914400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mediazione didattica non è banalizzazione  o semplice  riduzione dei contenuti, ma la sua funzione è rendere comprensibile la complessità del ragionamento e della ricerca geosto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 approccio geo-storico nella storiograf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ernand Braude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Lo spazio non rappresenta  solo lo scenario della vicenda umana ma uno dei soggetti di quella stessa vicenda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ucio Gambi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on esistono le discipline ma esistono solo i problem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da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blem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debbono partire  le nostre ricerche per cercare possibili rispost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sando le conoscenze e le capacità di indagine di cui disponiam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 come storici, geografici, fisici, matematici, e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6/08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9320-5DB0-46B4-B0F8-EE3EA290F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 approccio geo-storico nella storiograf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II geografo lavora sull'attu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— e qui sta la sua debolezza e insieme la sua forza —,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ul mondo come è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; e se si richiama al passato, cosa che gli accade spesso,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lo fa per spiegare il presente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. Cercare di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trasferire nel passato il lavoro che compiamo sull'attualità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; chiedersi, per esempio, quale sia stata la geografia umana sociale della Francia ai tempi di Luigi XIII, oppure di una parte qualsiasi dell'America precolombiana, eccovi, in poche parole,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il programma della geostoria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rnand Braudel: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it-IT" sz="2100" spc="-1" strike="noStrike">
                <a:solidFill>
                  <a:srgbClr val="000000"/>
                </a:solidFill>
                <a:latin typeface="Arial"/>
              </a:rPr>
              <a:t>Storia misura del mondo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, Il Mulino, Bologna, 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6/08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98E4-D4D2-4EC7-AD92-807426CFA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 interazione Storia - Geograf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costruire percorsi  comuni, di storia e geografia bisogn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ire da temi e  problemi del mondo d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gg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esaminarli da punti di vista differen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vilupparne l’analisi in prospettiva storica nell’evoluzione tempora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prospettiva spaziale, nella diversità reg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6/08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E0E2-936A-4246-AF3F-C89B5BB61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68360" y="4653000"/>
            <a:ext cx="8353440" cy="1221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dove” permette di  capire meglio “ il come” e “ il perché’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SEGNAMENTO -  APPRENDIMENTO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OSTO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oria e geografia son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cipline complementari e la loro inter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mette di rinnovare i processi di insegnamento e di apprendimento sia per quanto riguar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) la  scelta dei temi da privileg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) la strutturazione e gestione delle conosc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) l’uso degli strumenti e dei meto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) la metodologia da attivare per favorire l’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6/08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5FA0-7E55-45C8-BDDE-F3DAE0C12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) I temi da privilegi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istono temi  (citati anche nelle </a:t>
            </a:r>
            <a:r>
              <a:rPr b="0" lang="it-IT" sz="2000" spc="-1" strike="noStrike" u="sng">
                <a:solidFill>
                  <a:srgbClr val="00592d"/>
                </a:solidFill>
                <a:uFillTx/>
                <a:latin typeface="Arial"/>
                <a:hlinkClick r:id="rId2"/>
              </a:rPr>
              <a:t>Indicazio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in cui le rilevanze geografiche meglio interagiscono con quelle storiche e temporal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lazioni compless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corrono tra le condizioni fisiche e ambientali (paesaggi, ambienti  climatici) e le caratteristiche socioeconomiche culturali  di un territorio. (rapporto tra sistema umano e natur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interazione fra attività umane e territor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 tipologie di insediamento (paesaggi, spazi urbani, spazi rurali) e sfruttamento dell’ambi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popol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e dinamiche demografiche e quelle migratorie le diversità culturali, le disuguaglian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 risorse e l’econom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il ruolo della tecnologia, la globalizzazione e la geopoli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6/08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7B50-2E32-41A2-944F-05B0A2EF4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b) Come strutturare e gestire le conoscenze per produrre compet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etenze generali riferite alla geosto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dentificazione del tema\probl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calizzazione, quantificazione, contestualizzazione, descrizione, selezione di informazioni pertin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rganizzazione e messa in relazione delle informazio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pretazione del te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eneralizzazioni,  argomentazioni rielaborazione dei d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6/08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974D-50FA-4DAF-9B5A-D18FC011E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58120" cy="1052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) Strumenti e metodi : il digi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e il digitale struttura e gestisce le conoscenze per produrre competenze geo-stor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ue esempi per discutere insi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. Il Popolamento del m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. L’evoluzione morfologica della laguna di Venezia dal XVII secolo a o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egnaposto data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26/08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egnaposto piè di pagina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lio92 - Scuola estiva di Arcevia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ECD5-1A11-4A7A-BC42-E7562BC6C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20:34:13Z</dcterms:created>
  <dc:creator>Francesca De Matté</dc:creator>
  <dc:description/>
  <dc:language>en-US</dc:language>
  <cp:lastModifiedBy>Administrator</cp:lastModifiedBy>
  <dcterms:modified xsi:type="dcterms:W3CDTF">2012-09-03T07:09:14Z</dcterms:modified>
  <cp:revision>36</cp:revision>
  <dc:subject/>
  <dc:title>Presentazione standard di PowerPoint</dc:title>
</cp:coreProperties>
</file>